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کنفرانس بین المللی توسعه آموزش عالی فرامرزی: فرصت ها و چالش ه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9D39-FC37-4755-AC2B-E9878344409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Header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کنفرانس بین المللی توسعه آموزش عالی فرامرزی: فرصت ها و چالش ه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89A-0328-4198-A859-F97EE1E1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232-C8E9-4F2A-AD6F-D8924E99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92D2-B751-4C92-B433-D72CF240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689-4149-4BFC-AF1C-7ED24191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A4E-A06C-4B5D-B180-D093B4D7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F54-BBBE-4FF0-A316-CCA55E95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4A5-C9F9-40EE-80D1-26DD4C0C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528-F1B5-4FCB-BC79-1FDAD015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FE8-987B-480B-9091-14E993EA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8DE9-6346-44B0-B325-B3C8F0A1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A4C-2CBA-4ED0-A10C-8F61B5DD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51DC-54B5-4BF9-828E-7C855C50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5F2D-DE5B-4BC5-9D90-EA196EA771EB}" type="datetime">
              <a:rPr b="0" lang="fa-IR" sz="1200" spc="-1" strike="noStrike">
                <a:solidFill>
                  <a:srgbClr val="898989"/>
                </a:solidFill>
                <a:latin typeface="Calibri"/>
              </a:rPr>
              <a:t>۲۰۲۶/۰۷/۲۸</a:t>
            </a:fld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7B3631-572F-49F8-87FA-48044DA449DE}" type="datetime10">
              <a:rPr b="0" lang="fa-IR" sz="1200" spc="-1" strike="noStrike">
                <a:solidFill>
                  <a:srgbClr val="898989"/>
                </a:solidFill>
                <a:latin typeface="Calibri"/>
              </a:rPr>
              <a:t>۲۱:۵۳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E9F2-CEB9-4B3E-BFCC-4180E2D15170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9"/>
          <p:cNvSpPr/>
          <p:nvPr/>
        </p:nvSpPr>
        <p:spPr>
          <a:xfrm>
            <a:off x="0" y="0"/>
            <a:ext cx="9144000" cy="1511280"/>
          </a:xfrm>
          <a:prstGeom prst="roundRect">
            <a:avLst>
              <a:gd name="adj" fmla="val 27699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500200" y="27795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Titr"/>
              </a:rPr>
              <a:t>عنوان مقا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928800" y="4508640"/>
            <a:ext cx="72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Titr"/>
              </a:rPr>
              <a:t>نویسنده/نویسندگان مقال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Titr"/>
              </a:rPr>
              <a:t>در مقالات با بیش از یک نویسنده، نام ارائه کننده مقاله با یک علامت ستاره مشخص شو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"/>
          <p:cNvGrpSpPr/>
          <p:nvPr/>
        </p:nvGrpSpPr>
        <p:grpSpPr>
          <a:xfrm>
            <a:off x="676440" y="115920"/>
            <a:ext cx="8092800" cy="1543320"/>
            <a:chOff x="676440" y="115920"/>
            <a:chExt cx="8092800" cy="1543320"/>
          </a:xfrm>
        </p:grpSpPr>
        <p:sp>
          <p:nvSpPr>
            <p:cNvPr id="52" name="TextBox 27"/>
            <p:cNvSpPr/>
            <p:nvPr/>
          </p:nvSpPr>
          <p:spPr>
            <a:xfrm>
              <a:off x="676440" y="285480"/>
              <a:ext cx="6437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IranNastaliq"/>
                  <a:cs typeface="B Lotus"/>
                </a:rPr>
                <a:t>همایش استانی تربیت سیاسی و اجتماع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IranNastaliq"/>
                  <a:cs typeface="B Lotus"/>
                </a:rPr>
                <a:t>جایگاه و اقتضائات در تربیت معل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9" descr=""/>
            <p:cNvPicPr/>
            <p:nvPr/>
          </p:nvPicPr>
          <p:blipFill>
            <a:blip r:embed="rId1"/>
            <a:stretch/>
          </p:blipFill>
          <p:spPr>
            <a:xfrm>
              <a:off x="7350120" y="115920"/>
              <a:ext cx="141912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7"/>
          <p:cNvSpPr/>
          <p:nvPr/>
        </p:nvSpPr>
        <p:spPr>
          <a:xfrm>
            <a:off x="1071720" y="1495440"/>
            <a:ext cx="714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اسلایدها به صورت افقی باش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محتوای هر اسلاید دارای اطلاعات و داده های زیاد نباش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Yekan"/>
              </a:rPr>
              <a:t> </a:t>
            </a:r>
            <a:r>
              <a:rPr b="1" lang="fa-IR" sz="2000" spc="-1" strike="noStrike">
                <a:solidFill>
                  <a:srgbClr val="ff0000"/>
                </a:solidFill>
                <a:latin typeface="Calibri"/>
                <a:cs typeface="B Yekan"/>
              </a:rPr>
              <a:t>نکات اصلی 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در هر اسلاید مشخص باش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سعی شود بیش از متن، از عکس، شکل و نمودار استفاد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رنگ هایی انتخاب شوند که به خوبی دیده می شو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اسلایدها بدون غلط های املایی و نگارشی باش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3492360" y="6443640"/>
            <a:ext cx="55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B Yekan"/>
              </a:rPr>
              <a:t>عنوان مقاله: 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0" y="0"/>
            <a:ext cx="9144000" cy="1511280"/>
          </a:xfrm>
          <a:prstGeom prst="roundRect">
            <a:avLst>
              <a:gd name="adj" fmla="val 27699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IranNastaliq"/>
                <a:cs typeface="B Lotus"/>
              </a:rPr>
              <a:t>عنوان اسلا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20:13:35Z</dcterms:created>
  <dc:creator>WIN XP</dc:creator>
  <dc:description/>
  <dc:language>en-US</dc:language>
  <cp:lastModifiedBy>heidary</cp:lastModifiedBy>
  <dcterms:modified xsi:type="dcterms:W3CDTF">2015-11-04T05:40:36Z</dcterms:modified>
  <cp:revision>13</cp:revision>
  <dc:subject/>
  <dc:title>Slide 1</dc:title>
</cp:coreProperties>
</file>