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25203150" cy="360029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5A7-20AC-4036-BB7D-5B3BE8E8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92C-4CE2-44FD-9365-FE71A449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2BAC3-4E9B-40DA-8653-B9F39552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B65C1-8421-4E31-AB03-DB18C25E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9257A-AE5A-41FB-AC46-3D5378A1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0F0E9-35E3-4E9E-9431-F12262B7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E67DF-BBF6-42B9-8899-FD1AAEF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48D78-3B07-43D0-B883-3B67C42B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7A3AA-ABA5-4997-9ACB-4D0E574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B4366-6E4F-4E10-A0FA-598530B0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F1979-7029-4E27-8310-CBAA035C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CE750-4AC7-4B78-B6C7-8F6299BA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740-49DB-4E54-B9A6-46F7F384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70781-31CE-4322-9D44-C5E0B8D0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5F8A1-1FE1-4B9F-B08E-9F0080B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EE2BE-32FA-4C77-A008-7160DBE6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96CAB-D002-46EA-8209-20A7B661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F8D2A-7BFA-47E6-B9BF-E7535B4B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0CE1F-6436-4F86-9255-60395A6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A2C0F-F382-4E52-8B63-3335C2A8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6407E-7805-45BE-9789-6EA7BAE3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DC2E-5894-433A-828F-912ACC8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A0859-A5FA-4566-BB00-A35909B1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758-4981-4BB5-ABE5-5AF88217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0049C-8408-4CB9-8E31-86E2ACC5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F5D39-3376-453A-A15F-B1E77B91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65E5-2C5B-4825-9F7D-0642737B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64CE6-70B3-45B6-8500-AB02477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35864-9724-4EB1-82F2-00F640A4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D3F90-D134-4996-8A21-95BDCE7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53D79-EAF6-45C9-A0CD-76548302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BDB81-12FA-45C9-8B49-FEC43CAA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B020F-AFC9-45AD-92B4-6A0D5D87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9D9E7-2A64-457B-A710-D02FE7BF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143-BC0A-4A8B-9600-ABCE5D81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0F8C2-FB10-44D9-828F-D31AF12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A821-9875-40CA-969A-F28352A8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87E78-2F80-4212-BD3C-87DC199C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13D3A-12CE-4B09-BB10-81755F51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8967D-9B76-4999-A9E0-8658EFF5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4B2CB-E9DE-49F3-962B-E19C09D2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80386-45D4-4938-AE81-43549702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6FDD1-DEF3-4BCC-BFF7-D397B573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B7528-A713-44C4-B4EC-DF2835F4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6443F-95D1-420F-BFA3-A6A804F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5D38-95D1-4AF7-AF50-580EA06B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F57A9-5E04-4FCE-B0DD-DD0873F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726D1-4DD9-49D2-ACC1-40A8393B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8C026-D2B5-444F-B3E0-720AB8C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E44E8-FEE7-48ED-89F3-10217C12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8EC23-6616-4B27-A02B-888AB51B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0BFB-57AF-4667-9D4C-6F2FDA6A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A1A2-0702-48CA-A334-68D9FEA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657C-2839-4B28-B49D-1DB08C41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A55F-49ED-4387-8AEE-EFE88347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4F0C-65E3-44C0-9EB4-0C54E6C5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D55-CD04-4F01-97C5-F14A6A9F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F997-D00E-45F6-A2E4-8FA60BC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A1F9-407E-4004-98E4-F48327C9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AC76-FA29-496F-99C8-0E998B2D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FE57-2161-4AFD-9CCB-04D4DEB9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0B88-22A7-4D0D-BD12-8521C69B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B76D-6B97-4C26-A70F-CE44A8D7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375CE-0932-4292-9D2E-2A0FFF30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8D3EA-E04D-41C6-988D-AFC66990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D40E-311A-4D23-82C3-DEF6723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7F2B8-DADD-4DD8-9279-1495CD2A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C23-36BB-4E98-A2F3-C27BF994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A7D7-A1A6-48A3-B624-06AD8C9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8068-23E2-4570-A026-2F1D06D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9C32E-F869-4A8C-BD16-90EFEF6A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5B86-8595-447B-AF1A-ACD4ED3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8BE5-E8A5-4FD6-A8F5-18E9F6FD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2EB7-8731-4A40-9D8F-1BE63AA6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3C9A-4D57-46C8-84AA-B97B3E0F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196D-3BAE-433F-A064-690DB875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7892-03AD-4CAF-A253-06271665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02E6-28A7-4734-A70F-5107312D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582-FF91-4E25-86B1-EC10A203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616E0-2703-4C78-A19C-3BA97F29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8B7C-09B0-4771-A467-22248288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143B-DEC6-48FC-8356-37CE6C20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F99E-E447-41D5-BE04-1F32DD5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CDA0-60FD-42C0-A207-6422D808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E504-0DF1-4B12-89CE-5CD35BA7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C08F-82B0-458E-96AF-F4001A84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A191-9912-4087-B0BA-CC065230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6702-B7F5-4000-AFE2-C6D27FF1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C4798-CC4C-490D-924E-DD6679E4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2B7-8E6D-439C-ACF6-DD8F9378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D8990-1BF0-4198-A909-997E05FA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C1598-74A2-4EF9-8FCC-BD87203A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7FB1-47E6-4B1E-93A3-C0FF3E88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82857-241A-41BE-B342-A1A66208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192E2-6867-432D-A44F-A12C1C9F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BC50C-13AD-4746-B4DC-4CB687FE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9C171-5527-407B-8E03-E8E966F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97EA9-1319-44EE-A435-DB1F6526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2336-AEEC-4537-9684-4269097A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0B81-9003-4906-A2D5-76F670D9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6FE-B289-454B-B828-1200700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971B-D113-4E55-A9FE-FD7226F0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D1AB-BAC5-407F-AD90-B8DBFFB9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F56A-F356-4481-A2AE-A37AB190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DBF1-98F8-4A49-8ABE-51B84FB0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3EBA-8C6A-41DB-8E69-A6C0A43B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CF41C-A01D-4AF3-8069-D894D18D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C773-4958-4879-95D3-30FB963F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535E7-7B65-4AB2-9022-869AB5E0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8476-B9D5-4837-9941-400615BE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980D-6794-4BEF-BF31-AB6F2BF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59A-F22A-4466-99A2-5F9504A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20380-0E61-4F4A-B2B3-9B697CEE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E638-0E52-45BD-8DBA-5F73C1A2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A423-E460-4669-BC3E-B6E02EFD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1070-E21B-4BBA-B753-BB3F9E10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F851F-856F-4783-965A-26F94C74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CF4F1-31B6-47D7-B3AA-39860704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46DA-459F-42A6-9660-023EDA7C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357BC-F9F6-4E65-89D0-7F54836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C5997-8845-4489-8255-8F75EE15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52B3-C184-468C-B5DF-7715A06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A30-48D3-4F18-ADDF-26E3E24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2193-8486-4C61-9B75-2880544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835B5-89CE-4CA5-92B5-2CF24BEA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9122D-E0CB-43D9-A9CC-F056E8E9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0C05C-13B2-45C6-BC4F-153FC0E6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B9482-E59D-4B7E-847B-FF11425F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72C99-BCBA-4B26-A4E6-A5A76B62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38FC4-7D67-49FE-AA6E-8B6F7FBB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C1B4B-4B57-4B00-B964-EE561A42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77D41-C314-4D11-8B93-E0AB3552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64FC6-D91B-44F5-8DEB-EC208FF7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77F-4F08-4FB0-BE63-E9033EC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35B5-0AC9-460C-8065-534E429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0EF7A-B9EF-49D6-B406-C9EA7B19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E0B0-1A92-4F6B-8BBE-F2932EF2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020C-7B77-4FB0-9B4C-6BC961CF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E42FB-02A1-4316-B664-0F45A934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50435-10AF-42C7-8E46-7544E48D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14F5D-405C-4210-8F3F-9A68F922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1B38B-8644-4D90-8ED5-26110426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85666-0533-4B89-AA74-B284CFC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CE0B7-6E0E-45FF-A2B7-FF3334E8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1A35A094-2862-4994-8E3D-F8860A715D87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7CC3B8DD-C756-48A1-ADB9-DACE59C552C1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8D02798B-E12B-403D-AC3D-C1BADBADA361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A1F22F43-8055-48D2-99D0-D501189DA717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2B0A9D9A-07E0-4406-8A3C-5019824DD7C1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7CC2FF1A-996B-490C-8C10-CE32DD4DB28D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435E7D73-C1A1-4937-AC0F-EB6AAD1EE193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CA330113-3BD5-42E4-A94C-B0C66BEF6484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EFC7CF3A-02A1-464C-9E05-7840137CECD2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212F6ECA-ECEB-4AF2-B244-274DD8DFC360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835D5043-0F04-4835-9F8D-9A1DBA0C2EA0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563918C4-8A07-4D6B-9A0F-A9526F31A72F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"/>
          <p:cNvSpPr/>
          <p:nvPr/>
        </p:nvSpPr>
        <p:spPr>
          <a:xfrm>
            <a:off x="4295880" y="3600360"/>
            <a:ext cx="16535160" cy="2498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 :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B titr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  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 با سایز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48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، به صورت تو پ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1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2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"/>
          <p:cNvSpPr/>
          <p:nvPr/>
        </p:nvSpPr>
        <p:spPr>
          <a:xfrm>
            <a:off x="1400040" y="7334280"/>
            <a:ext cx="22936320" cy="3916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متن چکید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چکیده از قلم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با فونت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و به صورت تو پر استفاده شود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6"/>
          <p:cNvSpPr/>
          <p:nvPr/>
        </p:nvSpPr>
        <p:spPr>
          <a:xfrm>
            <a:off x="16640280" y="12592080"/>
            <a:ext cx="7924680" cy="1079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این قسمت، اهمیت و ضرورت پژوهش و همچنین پیشینه پژوهش می آی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13897080" y="28899000"/>
            <a:ext cx="1043928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9"/>
          <p:cNvSpPr/>
          <p:nvPr/>
        </p:nvSpPr>
        <p:spPr>
          <a:xfrm>
            <a:off x="16633800" y="25563600"/>
            <a:ext cx="7924680" cy="8321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وش تحقی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1"/>
          <p:cNvSpPr/>
          <p:nvPr/>
        </p:nvSpPr>
        <p:spPr>
          <a:xfrm>
            <a:off x="8258040" y="12592080"/>
            <a:ext cx="7925040" cy="2107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561960" y="12592080"/>
            <a:ext cx="7315200" cy="1120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نتیجه گیر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5"/>
          <p:cNvSpPr/>
          <p:nvPr/>
        </p:nvSpPr>
        <p:spPr>
          <a:xfrm>
            <a:off x="561960" y="25470000"/>
            <a:ext cx="7238880" cy="8732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مراج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9"/>
          <p:cNvGrpSpPr/>
          <p:nvPr/>
        </p:nvGrpSpPr>
        <p:grpSpPr>
          <a:xfrm>
            <a:off x="18375480" y="5832360"/>
            <a:ext cx="5924520" cy="1349640"/>
            <a:chOff x="18375480" y="5832360"/>
            <a:chExt cx="5924520" cy="1349640"/>
          </a:xfrm>
        </p:grpSpPr>
        <p:sp>
          <p:nvSpPr>
            <p:cNvPr id="501" name="Trapezoid 16"/>
            <p:cNvSpPr/>
            <p:nvPr/>
          </p:nvSpPr>
          <p:spPr>
            <a:xfrm>
              <a:off x="18375480" y="6391080"/>
              <a:ext cx="5892480" cy="790920"/>
            </a:xfrm>
            <a:prstGeom prst="pi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چکید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5" descr="C:\Documents and Settings\WIN XP\Desktop\کلپ آرت\mcol_magnifying_glass.png"/>
            <p:cNvPicPr/>
            <p:nvPr/>
          </p:nvPicPr>
          <p:blipFill>
            <a:blip r:embed="rId1"/>
            <a:stretch/>
          </p:blipFill>
          <p:spPr>
            <a:xfrm>
              <a:off x="22971240" y="5832360"/>
              <a:ext cx="1328760" cy="119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3" name="Group 22"/>
          <p:cNvGrpSpPr/>
          <p:nvPr/>
        </p:nvGrpSpPr>
        <p:grpSpPr>
          <a:xfrm>
            <a:off x="18637200" y="11306160"/>
            <a:ext cx="5558040" cy="1278000"/>
            <a:chOff x="18637200" y="11306160"/>
            <a:chExt cx="5558040" cy="1278000"/>
          </a:xfrm>
        </p:grpSpPr>
        <p:sp>
          <p:nvSpPr>
            <p:cNvPr id="504" name="Trapezoid 19"/>
            <p:cNvSpPr/>
            <p:nvPr/>
          </p:nvSpPr>
          <p:spPr>
            <a:xfrm>
              <a:off x="18637200" y="11775960"/>
              <a:ext cx="5558040" cy="57780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   مقدم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3" descr="C:\Documents and Settings\WIN XP\Desktop\کلپ آرت\introduction-puzzle-pieces-md.png"/>
            <p:cNvPicPr/>
            <p:nvPr/>
          </p:nvPicPr>
          <p:blipFill>
            <a:blip r:embed="rId2"/>
            <a:stretch/>
          </p:blipFill>
          <p:spPr>
            <a:xfrm rot="5400000">
              <a:off x="22815360" y="11327760"/>
              <a:ext cx="1278000" cy="123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25"/>
          <p:cNvGrpSpPr/>
          <p:nvPr/>
        </p:nvGrpSpPr>
        <p:grpSpPr>
          <a:xfrm>
            <a:off x="18289440" y="24195240"/>
            <a:ext cx="5832720" cy="1218960"/>
            <a:chOff x="18289440" y="24195240"/>
            <a:chExt cx="5832720" cy="1218960"/>
          </a:xfrm>
        </p:grpSpPr>
        <p:sp>
          <p:nvSpPr>
            <p:cNvPr id="507" name="Trapezoid 22"/>
            <p:cNvSpPr/>
            <p:nvPr/>
          </p:nvSpPr>
          <p:spPr>
            <a:xfrm>
              <a:off x="18289440" y="24622200"/>
              <a:ext cx="5591520" cy="609480"/>
            </a:xfrm>
            <a:prstGeom prst="pi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روش تحقیق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4" descr="C:\Documents and Settings\WIN XP\Desktop\کلپ آرت\edit-paste.png"/>
            <p:cNvPicPr/>
            <p:nvPr/>
          </p:nvPicPr>
          <p:blipFill>
            <a:blip r:embed="rId3">
              <a:grayscl/>
              <a:lum contrast="40000"/>
            </a:blip>
            <a:stretch/>
          </p:blipFill>
          <p:spPr>
            <a:xfrm>
              <a:off x="22741560" y="24195240"/>
              <a:ext cx="13806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oup 31"/>
          <p:cNvGrpSpPr/>
          <p:nvPr/>
        </p:nvGrpSpPr>
        <p:grpSpPr>
          <a:xfrm>
            <a:off x="2952720" y="11449080"/>
            <a:ext cx="4977000" cy="1143000"/>
            <a:chOff x="2952720" y="11449080"/>
            <a:chExt cx="4977000" cy="1143000"/>
          </a:xfrm>
        </p:grpSpPr>
        <p:sp>
          <p:nvSpPr>
            <p:cNvPr id="510" name="Trapezoid 25"/>
            <p:cNvSpPr/>
            <p:nvPr/>
          </p:nvSpPr>
          <p:spPr>
            <a:xfrm>
              <a:off x="2952720" y="11807640"/>
              <a:ext cx="4977000" cy="603360"/>
            </a:xfrm>
            <a:prstGeom prst="pie">
              <a:avLst/>
            </a:prstGeom>
            <a:solidFill>
              <a:srgbClr val="b90793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ffffff"/>
                  </a:solidFill>
                  <a:latin typeface="Calibri"/>
                  <a:ea typeface="B Titr"/>
                </a:rPr>
                <a:t>             نتیجه گیری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1" descr="C:\Documents and Settings\WIN XP\Desktop\کلپ آرت\Picture1232.jpg"/>
            <p:cNvPicPr/>
            <p:nvPr/>
          </p:nvPicPr>
          <p:blipFill>
            <a:blip r:embed="rId4"/>
            <a:stretch/>
          </p:blipFill>
          <p:spPr>
            <a:xfrm>
              <a:off x="6769440" y="11449080"/>
              <a:ext cx="10540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Trapezoid 28"/>
          <p:cNvSpPr/>
          <p:nvPr/>
        </p:nvSpPr>
        <p:spPr>
          <a:xfrm>
            <a:off x="11229840" y="11748960"/>
            <a:ext cx="4538880" cy="685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  <a:ea typeface="B Titr"/>
              </a:rPr>
              <a:t>               یافته های تحقی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7"/>
          <p:cNvGrpSpPr/>
          <p:nvPr/>
        </p:nvGrpSpPr>
        <p:grpSpPr>
          <a:xfrm>
            <a:off x="2664000" y="24331680"/>
            <a:ext cx="5041800" cy="985680"/>
            <a:chOff x="2664000" y="24331680"/>
            <a:chExt cx="5041800" cy="985680"/>
          </a:xfrm>
        </p:grpSpPr>
        <p:sp>
          <p:nvSpPr>
            <p:cNvPr id="514" name="Trapezoid 31"/>
            <p:cNvSpPr/>
            <p:nvPr/>
          </p:nvSpPr>
          <p:spPr>
            <a:xfrm>
              <a:off x="2664000" y="24687000"/>
              <a:ext cx="4749480" cy="554040"/>
            </a:xfrm>
            <a:prstGeom prst="pi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raffic"/>
                </a:rPr>
                <a:t>                </a:t>
              </a: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منابع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C:\Documents and Settings\WIN XP\Desktop\کلپ آرت\open_book.png"/>
            <p:cNvPicPr/>
            <p:nvPr/>
          </p:nvPicPr>
          <p:blipFill>
            <a:blip r:embed="rId5"/>
            <a:stretch/>
          </p:blipFill>
          <p:spPr>
            <a:xfrm>
              <a:off x="6041160" y="24331680"/>
              <a:ext cx="1664640" cy="9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1"/>
          <p:cNvGrpSpPr/>
          <p:nvPr/>
        </p:nvGrpSpPr>
        <p:grpSpPr>
          <a:xfrm>
            <a:off x="1138320" y="-986400"/>
            <a:ext cx="21516840" cy="4126320"/>
            <a:chOff x="1138320" y="-986400"/>
            <a:chExt cx="21516840" cy="4126320"/>
          </a:xfrm>
        </p:grpSpPr>
        <p:sp>
          <p:nvSpPr>
            <p:cNvPr id="517" name="TextBox 27"/>
            <p:cNvSpPr/>
            <p:nvPr/>
          </p:nvSpPr>
          <p:spPr>
            <a:xfrm>
              <a:off x="3744000" y="-986400"/>
              <a:ext cx="189111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1" lang="fa-IR" sz="6600" spc="-1" strike="noStrike">
                  <a:solidFill>
                    <a:srgbClr val="000000"/>
                  </a:solidFill>
                  <a:latin typeface="IranNastaliq"/>
                  <a:ea typeface="B Lotus"/>
                </a:rPr>
                <a:t>             همایش استانی تربیت سیاسی و اجتماعی جایگاه و اقتضائات در تربیت معل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9" descr=""/>
            <p:cNvPicPr/>
            <p:nvPr/>
          </p:nvPicPr>
          <p:blipFill>
            <a:blip r:embed="rId6"/>
            <a:stretch/>
          </p:blipFill>
          <p:spPr>
            <a:xfrm>
              <a:off x="1138320" y="504360"/>
              <a:ext cx="2029680" cy="263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9" name="Picture 28" descr=""/>
          <p:cNvPicPr/>
          <p:nvPr/>
        </p:nvPicPr>
        <p:blipFill>
          <a:blip r:embed="rId7"/>
          <a:stretch/>
        </p:blipFill>
        <p:spPr>
          <a:xfrm>
            <a:off x="14762160" y="11221920"/>
            <a:ext cx="10288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15:46Z</dcterms:created>
  <dc:creator>WIN XP</dc:creator>
  <dc:description/>
  <dc:language>en-US</dc:language>
  <cp:lastModifiedBy>ketab</cp:lastModifiedBy>
  <dcterms:modified xsi:type="dcterms:W3CDTF">2015-11-17T04:32:08Z</dcterms:modified>
  <cp:revision>18</cp:revision>
  <dc:subject/>
  <dc:title>Slide 1</dc:title>
</cp:coreProperties>
</file>