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5477-401C-42F5-9541-70EBFD48F9BF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ader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4E5-10F2-499B-8386-CCC43F52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197-4FE7-44E9-989B-A011B45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72D-69E2-451F-B9CF-E34691FB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F50-37B5-46F5-B54B-CCBEE466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FE6-5F38-4605-90E9-5863A1B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D19-C8ED-4FF1-872D-37F1DD3B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3DB-3203-411F-B116-BE1F93B7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350-7823-4BDD-AB3F-9E3D1E87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DAE-B528-4D52-AD37-DC10F88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BDD-A793-47F4-BF9C-16B94DD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E79-0549-414A-9936-C20BEDE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075-D72D-43CA-975A-080AB732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235-83B5-45BA-90B8-8F29C19F3F9B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۲۸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1B6ECF-5C4D-4BBB-9C1D-B5CEF67EE4D9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۲۱:۵۲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0CDF-CFF5-49E6-9EE7-2995FFBA32DC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9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0200" y="27795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928800" y="45086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نویسنده/نویسندگان مقا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در مقالات با بیش از یک نویسنده، نام ارائه کننده مقاله با یک علامت ستاره مشخص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676440" y="115920"/>
            <a:ext cx="8092800" cy="1543320"/>
            <a:chOff x="676440" y="115920"/>
            <a:chExt cx="8092800" cy="1543320"/>
          </a:xfrm>
        </p:grpSpPr>
        <p:sp>
          <p:nvSpPr>
            <p:cNvPr id="52" name="TextBox 27"/>
            <p:cNvSpPr/>
            <p:nvPr/>
          </p:nvSpPr>
          <p:spPr>
            <a:xfrm>
              <a:off x="676440" y="285480"/>
              <a:ext cx="6437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همایش استانی تربیت سیاسی و 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جایگاه و اقتضائات در تربیت معل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350120" y="115920"/>
              <a:ext cx="14191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7"/>
          <p:cNvSpPr/>
          <p:nvPr/>
        </p:nvSpPr>
        <p:spPr>
          <a:xfrm>
            <a:off x="1071720" y="14954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ه صورت افق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محتوای هر اسلاید دارای اطلاعات و داده های زیاد ن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Yekan"/>
              </a:rPr>
              <a:t> </a:t>
            </a:r>
            <a:r>
              <a:rPr b="1" lang="fa-IR" sz="2000" spc="-1" strike="noStrike">
                <a:solidFill>
                  <a:srgbClr val="ff0000"/>
                </a:solidFill>
                <a:latin typeface="Calibri"/>
                <a:cs typeface="B Yekan"/>
              </a:rPr>
              <a:t>نکات اصلی 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در هر اسلاید مشخص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سعی شود بیش از متن، از عکس، شکل و نمودار استفاد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رنگ هایی انتخاب شوند که به خوبی دیده می شو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دون غلط های املایی و نگارش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644364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B Yekan"/>
              </a:rPr>
              <a:t>عنوان مقاله: 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IranNastaliq"/>
                <a:cs typeface="B Lotus"/>
              </a:rPr>
              <a:t>عنوان اسلا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0:13:35Z</dcterms:created>
  <dc:creator>WIN XP</dc:creator>
  <dc:description/>
  <dc:language>en-US</dc:language>
  <cp:lastModifiedBy>heidary</cp:lastModifiedBy>
  <dcterms:modified xsi:type="dcterms:W3CDTF">2015-11-04T05:40:36Z</dcterms:modified>
  <cp:revision>13</cp:revision>
  <dc:subject/>
  <dc:title>Slide 1</dc:title>
</cp:coreProperties>
</file>