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25203150" cy="36002913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D6C-A0DB-495E-B931-B32771B9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3BD5-E0E7-47F4-B3FB-FAA6D8B7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E78A0-D9DA-41F7-AABF-5AC88E4D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02430-2E0E-484F-8E74-DFBAC5CA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91A86-A8A2-46C4-9D3B-4332DA7E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13128-5F35-4E6C-A6FD-7506FD1E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AC3F8-D609-4712-A11C-4424692C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381E8-26CE-4C43-9327-23E7FB14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BE881-356F-4549-ACB2-25CE68D4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54F9E-63F0-4E36-8EA2-10585F36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FC6AA-5A40-4AF4-A9EA-D3C584B8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87F55-59EE-4431-8852-01C79A0F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787-CCC4-4888-99F2-EFA993C3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D5BBE-54F0-43D3-BE13-53F3AAB7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47B1A-32A9-4320-9C89-97444452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01C79-5727-42B6-9F4E-27572467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A8B4C-A33C-45F8-825E-943FCEA6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D862D-49DD-4031-9460-587638C2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F085C-0988-49E3-B7CE-2862BC91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EE3E7-72A7-4148-8531-F027684D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034CB-EA65-45FC-A474-B4CFDB79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07A3F-F2FF-4AF1-BF34-87E40761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AF79F-78F9-4E9C-B808-0B4CEFA6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EBF5-033E-40B3-89E5-F6774DFC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F8DA6-00FF-4D82-A2C3-BBF2F2AF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236D3-06E2-4BDA-A795-23C42FA8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395C3-65E0-42D6-BEE0-0293403F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8FDC5-6ADC-4B42-AB5E-027C8745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A4B9D-F945-4A80-B9A8-8EE76318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0FE14-D406-4AD6-B2C2-793B9A8E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20FA5-11A0-42E3-A6C7-222E0785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CA490-47D3-4106-97A9-FA67A2D2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DD74F-38E0-4CED-BF62-C885680B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9E32B-7856-48E6-A38E-3EFEAF19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F666-916A-4F77-9934-84C1EF34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D0F8A-AEC9-4FE0-A7BD-FCB30393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EE9FF-CE68-44E6-9406-5542C97A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92FDE-8A7B-4899-A673-55E5A94C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FF4CC-1B7E-464C-A588-4F97D75B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2BF6F-64F8-4A66-8B5C-BEF40F29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47F8E-667A-40A7-A871-EE06F4F1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BF1FD-0D43-477A-AC2E-BA2FE9B8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F40AE-78DD-4207-8761-B9CF3EF6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3C5C7-D453-48C6-AAAC-7AB11A26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18421-15C1-4406-9110-D32E0894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7028-FB2D-4516-8CC0-D7DD08CB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3D34D-B1E7-490F-9248-02D1FCFB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F4F5B-9C8F-4C6D-B600-9C295E61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A3966-5B1D-4A3D-B308-0C24BD69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DBED4-C66D-476A-8946-982D5299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E0F84-0773-4DC8-94E3-6D51FC10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30BD-B62B-46A1-86EB-9039AB8A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3D1B-6B81-4E64-A407-A7DF089B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010B-1B9D-4732-8902-4EE6A6F6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CAB9-C3AF-45D3-BFD2-F0DEF973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CD4F-6CFD-4FF3-AA61-F42B3580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543C-26FE-4AA4-8816-DB9A4195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B47E-C969-43D8-AEF7-D0BCF04E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F2EF-A2E4-4ECE-B838-983B5C4E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3F2F-7F9A-4BAC-B32B-D564F136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57C0-FE62-4AA1-BDE3-4094D674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BFAF-0300-4DDC-AC96-E82A66A6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DC8B3-E0AB-42B9-A823-9D605205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9C2BF-FDEF-4364-A275-704C72ED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03EE2-E643-4631-930F-1318C2A8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B95E2-8253-4746-A203-40DD49CA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DA2A7-B837-4674-82DA-A49741B8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3827-4808-4BCB-8153-004DCC34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76D0-EDE8-4663-8073-19819867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2F29D-3F78-4E6C-B3C4-44362C13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CA8F7-0138-4010-870E-3EE59E11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B1CC1-0736-4BAA-93C7-E9279BF8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D39C5-F57E-4D9E-902E-F92CA614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43388-9F4F-4704-AB11-4A0B4411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D2F08-F757-4109-8E95-5935F710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0935D-F46D-4A8F-A87E-B6D089F9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5B441-833A-41A5-9B6A-A7D6CFA7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373B9-7E58-49FD-BE90-9B311235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290A-0D62-449F-8325-CF8B1159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5D359-28C3-431B-B1A1-202F535A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F57B0-9ECD-4E3F-BC10-09E381BE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424C5-2DC5-4C4C-A4CC-B918A124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9B85D-0BA4-4C45-A5F5-AD35BE6E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774E6-8681-49DE-8B35-876DC2F9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0347E-DA54-47D7-8465-329F675B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BE2CC-FF39-4F9B-893C-2198C888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17F4C-6CDD-4E18-ADE6-D570ABFC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2092C-0936-4E4E-8FFF-56FC0DB3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ECF69-0D0F-4584-B984-9E765E30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4129-6E24-4778-96BB-3AF2D94A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72695-4F7F-4C68-9A21-121F2A8A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25604-F4CB-4763-A310-5224E6AA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BC4AC-DE93-41B0-8BA8-E223BFC1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F39D8-17BB-48C5-A779-DF86623D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40D71-D551-45FC-B029-F702CCE3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FC800-681C-40C1-8A01-B5F00A8F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09E5D-EEB7-4484-A574-7293A1BD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3A5A0-5D59-4BDC-BDB3-01154635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E5C6D-608C-47C2-8B91-7AB6F38B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E3A4F-682D-4686-B5CF-03D9ED58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025-3D18-4D96-AF8F-52067274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2750D-EBEC-44F7-8361-657DA33C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00158-AE47-415D-B32D-C79E2344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3F3C3-3019-497D-9793-8B4E2D00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CD871-16CD-4941-A3A0-42EC550C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012AC-07E9-4516-9B73-88E66258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DC71F-1ABC-46B5-AD2F-780ACFD1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DA747-1528-4803-82B5-CDAC6650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742B4-F454-444A-BE9E-D3DEC9BB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80C80-23BE-4CE7-A501-5F13FE1D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E2D7A-ED23-41D5-BEA6-D16D254B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0C6-1630-4DBC-9C28-83752F10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A6313-349F-429C-B75E-9094A644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7E364-48C6-4EC2-A51B-1B8BC1E2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79706-3A93-4CCE-98C1-0F651898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D72E6-465D-4B9C-A6EB-EB99576E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F469D-C4E2-4DBF-8CB4-7DD53DEA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B9F5C-CD00-4E07-AE54-EEB32D90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8698F-EF62-4BA0-B25F-3179BB4D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411E2-6618-40F8-B886-5E75A94A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21E52-C2C3-459F-A978-A25F58AB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1ED49-B26D-4CED-AE66-449E3608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726-58C6-4D4E-8C9D-58F9F6F8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85CC2-C5C5-46C1-A7EC-CC836084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BDF28-E894-4239-8C28-19FB86B5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D8573-5848-40B6-BA6A-2A4FE14E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49D9E-CD2E-4E42-BC18-12A8B7C6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00388-3512-4195-BA25-FB1418C7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41CDE-4DC7-4DD4-A19D-CC2E84F0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8A9FE-03E2-4CFB-A5A1-B5FBC23F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AF9A8-5C42-4022-BDB0-E19921EF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61D2C-9517-4FA4-8A1E-2D90676B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32710-83BD-4907-A3D3-50A75044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B007-C683-4498-A0B5-0BD0A745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82DD5-B073-41C5-A037-95016B61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E730E-D68E-4B13-95C0-C465C93A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C3E58-E449-4E24-AB97-D0D0FA4A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CC458-9D25-46EC-9AAB-B06FD3AD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AF3F3-E5A3-479C-A3A4-7FBF54FC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48BC3-2E93-4CEB-9E28-2263A0B1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B941A-5112-4BE9-B150-18CC4613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A2570-927A-4373-B5D6-70265D39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5F22C-A9F8-4BD0-BA4F-C84D1396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17D0A-99BF-4D9D-9C60-D1619B9B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2A2B5961-E638-4B06-BFCE-AD88096ACEE6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E82B19C0-4F48-402D-9F58-0FD0C69E8AFB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EEDB0352-D7E0-48C6-9616-CCFDB02A6D0C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DAF743CD-5499-44A4-8C9F-3FBD6CDFC533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D10DCD0E-1228-4CD2-94F6-54DD80056105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E1A4860A-1919-48F3-88B8-D59232F8B056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722AA79E-08DF-4AA1-A983-6DA379A37A5E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6E0A4F86-4303-40B9-B062-612C046B1D61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9D766F32-80DF-492C-8380-6A3F8C4B5F6D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C272C8A7-9952-4FAC-B055-E5AA15756E05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0C8CCA9B-5A36-45E5-A6C1-58BA0E51C866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AE04489E-6411-475A-92C9-E15E03113DE0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3"/>
          <p:cNvSpPr/>
          <p:nvPr/>
        </p:nvSpPr>
        <p:spPr>
          <a:xfrm>
            <a:off x="4295880" y="3600360"/>
            <a:ext cx="16535160" cy="24987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1" lang="fa-IR" sz="5000" spc="-1" strike="noStrike">
                <a:solidFill>
                  <a:srgbClr val="000000"/>
                </a:solidFill>
                <a:latin typeface="Calibri"/>
                <a:cs typeface="B Titr"/>
              </a:rPr>
              <a:t>عنوان مقاله : 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  <a:ea typeface="B Titr"/>
              </a:rPr>
              <a:t>B titr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  <a:ea typeface="B Titr"/>
              </a:rPr>
              <a:t>  </a:t>
            </a:r>
            <a:r>
              <a:rPr b="1" lang="fa-IR" sz="5000" spc="-1" strike="noStrike">
                <a:solidFill>
                  <a:srgbClr val="000000"/>
                </a:solidFill>
                <a:latin typeface="Calibri"/>
                <a:ea typeface="B Titr"/>
              </a:rPr>
              <a:t> با سایز</a:t>
            </a:r>
            <a:r>
              <a:rPr b="1" lang="fa-IR" sz="5000" spc="-1" strike="noStrike">
                <a:solidFill>
                  <a:srgbClr val="000000"/>
                </a:solidFill>
                <a:latin typeface="Calibri"/>
                <a:ea typeface="B Titr"/>
              </a:rPr>
              <a:t>48</a:t>
            </a:r>
            <a:r>
              <a:rPr b="1" lang="fa-IR" sz="5000" spc="-1" strike="noStrike">
                <a:solidFill>
                  <a:srgbClr val="000000"/>
                </a:solidFill>
                <a:latin typeface="Calibri"/>
                <a:cs typeface="B Titr"/>
              </a:rPr>
              <a:t>، به صورت تو پ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1" lang="fa-IR" sz="3100" spc="-1" strike="noStrike">
                <a:solidFill>
                  <a:srgbClr val="000000"/>
                </a:solidFill>
                <a:latin typeface="Calibri"/>
                <a:cs typeface="B Traffic"/>
              </a:rPr>
              <a:t>اسامی نویسندگان </a:t>
            </a:r>
            <a:r>
              <a:rPr b="1" lang="fa-IR" sz="3100" spc="-1" strike="noStrike" baseline="30000">
                <a:solidFill>
                  <a:srgbClr val="000000"/>
                </a:solidFill>
                <a:latin typeface="Calibri"/>
                <a:ea typeface="B Traffic"/>
              </a:rPr>
              <a:t>1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: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  <a:ea typeface="B Traffic"/>
              </a:rPr>
              <a:t> 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3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1" lang="fa-IR" sz="3100" spc="-1" strike="noStrike">
                <a:solidFill>
                  <a:srgbClr val="000000"/>
                </a:solidFill>
                <a:latin typeface="Calibri"/>
                <a:cs typeface="B Traffic"/>
              </a:rPr>
              <a:t>اسامی نویسندگان </a:t>
            </a:r>
            <a:r>
              <a:rPr b="1" lang="fa-IR" sz="3100" spc="-1" strike="noStrike" baseline="30000">
                <a:solidFill>
                  <a:srgbClr val="000000"/>
                </a:solidFill>
                <a:latin typeface="Calibri"/>
                <a:ea typeface="B Traffic"/>
              </a:rPr>
              <a:t>2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: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  <a:ea typeface="B Traffic"/>
              </a:rPr>
              <a:t> 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3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3495600"/>
                <a:tab algn="l" pos="6991200"/>
                <a:tab algn="l" pos="10487160"/>
              </a:tabLst>
            </a:pPr>
            <a:r>
              <a:rPr b="1" lang="fa-IR" sz="2300" spc="-1" strike="noStrike">
                <a:solidFill>
                  <a:srgbClr val="000000"/>
                </a:solidFill>
                <a:latin typeface="Calibri"/>
                <a:cs typeface="B Traffic"/>
              </a:rPr>
              <a:t>درجه علمی نویسندگان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1" lang="fa-IR" sz="2300" spc="-1" strike="noStrike">
                <a:solidFill>
                  <a:srgbClr val="000000"/>
                </a:solidFill>
                <a:latin typeface="Calibri"/>
                <a:ea typeface="B Traffic"/>
              </a:rPr>
              <a:t> با سایز </a:t>
            </a:r>
            <a:r>
              <a:rPr b="1" lang="fa-IR" sz="2300" spc="-1" strike="noStrike">
                <a:solidFill>
                  <a:srgbClr val="000000"/>
                </a:solidFill>
                <a:latin typeface="Calibri"/>
                <a:ea typeface="B Traffic"/>
              </a:rPr>
              <a:t>2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3495600"/>
                <a:tab algn="l" pos="6991200"/>
                <a:tab algn="l" pos="10487160"/>
              </a:tabLst>
            </a:pPr>
            <a:r>
              <a:rPr b="1" lang="fa-IR" sz="2300" spc="-1" strike="noStrike">
                <a:solidFill>
                  <a:srgbClr val="000000"/>
                </a:solidFill>
                <a:latin typeface="Calibri"/>
                <a:cs typeface="B Traffic"/>
              </a:rPr>
              <a:t>درجه علمی نویسندگان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1" lang="fa-IR" sz="2300" spc="-1" strike="noStrike">
                <a:solidFill>
                  <a:srgbClr val="000000"/>
                </a:solidFill>
                <a:latin typeface="Calibri"/>
                <a:ea typeface="B Traffic"/>
              </a:rPr>
              <a:t> با سایز </a:t>
            </a:r>
            <a:r>
              <a:rPr b="1" lang="fa-IR" sz="2300" spc="-1" strike="noStrike">
                <a:solidFill>
                  <a:srgbClr val="000000"/>
                </a:solidFill>
                <a:latin typeface="Calibri"/>
                <a:ea typeface="B Traffic"/>
              </a:rPr>
              <a:t>2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4"/>
          <p:cNvSpPr/>
          <p:nvPr/>
        </p:nvSpPr>
        <p:spPr>
          <a:xfrm>
            <a:off x="1400040" y="7334280"/>
            <a:ext cx="22936320" cy="3916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1" lang="fa-IR" sz="3100" spc="-1" strike="noStrike">
                <a:solidFill>
                  <a:srgbClr val="000000"/>
                </a:solidFill>
                <a:latin typeface="Calibri"/>
                <a:cs typeface="B Traffic"/>
              </a:rPr>
              <a:t>متن چکیده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چکیده از قلم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30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 با فونت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 و به صورت تو پر استفاده شود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6"/>
          <p:cNvSpPr/>
          <p:nvPr/>
        </p:nvSpPr>
        <p:spPr>
          <a:xfrm>
            <a:off x="16640280" y="12592080"/>
            <a:ext cx="7924680" cy="10790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این قسمت، اهمیت و ضرورت پژوهش و همچنین پیشینه پژوهش می آی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متن فارسی از قلم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8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انگلیسی از قلم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6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8"/>
          <p:cNvSpPr/>
          <p:nvPr/>
        </p:nvSpPr>
        <p:spPr>
          <a:xfrm>
            <a:off x="13897080" y="28899000"/>
            <a:ext cx="1043928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9"/>
          <p:cNvSpPr/>
          <p:nvPr/>
        </p:nvSpPr>
        <p:spPr>
          <a:xfrm>
            <a:off x="16633800" y="25563600"/>
            <a:ext cx="7924680" cy="83214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وش تحقی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متن فارسی از قلم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8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انگلیسی از قلم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6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21"/>
          <p:cNvSpPr/>
          <p:nvPr/>
        </p:nvSpPr>
        <p:spPr>
          <a:xfrm>
            <a:off x="8258040" y="12592080"/>
            <a:ext cx="7925040" cy="2107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متن فارسی از قلم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8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انگلیسی از قلم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6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23"/>
          <p:cNvSpPr/>
          <p:nvPr/>
        </p:nvSpPr>
        <p:spPr>
          <a:xfrm>
            <a:off x="561960" y="12592080"/>
            <a:ext cx="7315200" cy="1120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نتیجه گیر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متن فارسی از قلم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8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انگلیسی از قلم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6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25"/>
          <p:cNvSpPr/>
          <p:nvPr/>
        </p:nvSpPr>
        <p:spPr>
          <a:xfrm>
            <a:off x="561960" y="25470000"/>
            <a:ext cx="7238880" cy="87328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مراج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متن فارسی از قلم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8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انگلیسی از قلم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6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19"/>
          <p:cNvGrpSpPr/>
          <p:nvPr/>
        </p:nvGrpSpPr>
        <p:grpSpPr>
          <a:xfrm>
            <a:off x="18375480" y="5832360"/>
            <a:ext cx="5924520" cy="1349640"/>
            <a:chOff x="18375480" y="5832360"/>
            <a:chExt cx="5924520" cy="1349640"/>
          </a:xfrm>
        </p:grpSpPr>
        <p:sp>
          <p:nvSpPr>
            <p:cNvPr id="501" name="Trapezoid 16"/>
            <p:cNvSpPr/>
            <p:nvPr/>
          </p:nvSpPr>
          <p:spPr>
            <a:xfrm>
              <a:off x="18375480" y="6391080"/>
              <a:ext cx="5892480" cy="790920"/>
            </a:xfrm>
            <a:prstGeom prst="pie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0" lang="fa-IR" sz="3800" spc="-1" strike="noStrike">
                  <a:solidFill>
                    <a:srgbClr val="000000"/>
                  </a:solidFill>
                  <a:latin typeface="Calibri"/>
                  <a:ea typeface="B Titr"/>
                </a:rPr>
                <a:t>             چکیده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Picture 5" descr="C:\Documents and Settings\WIN XP\Desktop\کلپ آرت\mcol_magnifying_glass.png"/>
            <p:cNvPicPr/>
            <p:nvPr/>
          </p:nvPicPr>
          <p:blipFill>
            <a:blip r:embed="rId1"/>
            <a:stretch/>
          </p:blipFill>
          <p:spPr>
            <a:xfrm>
              <a:off x="22971240" y="5832360"/>
              <a:ext cx="1328760" cy="119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3" name="Group 22"/>
          <p:cNvGrpSpPr/>
          <p:nvPr/>
        </p:nvGrpSpPr>
        <p:grpSpPr>
          <a:xfrm>
            <a:off x="18637200" y="11306160"/>
            <a:ext cx="5558040" cy="1278000"/>
            <a:chOff x="18637200" y="11306160"/>
            <a:chExt cx="5558040" cy="1278000"/>
          </a:xfrm>
        </p:grpSpPr>
        <p:sp>
          <p:nvSpPr>
            <p:cNvPr id="504" name="Trapezoid 19"/>
            <p:cNvSpPr/>
            <p:nvPr/>
          </p:nvSpPr>
          <p:spPr>
            <a:xfrm>
              <a:off x="18637200" y="11775960"/>
              <a:ext cx="5558040" cy="577800"/>
            </a:xfrm>
            <a:prstGeom prst="pie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0" lang="fa-IR" sz="3800" spc="-1" strike="noStrike">
                  <a:solidFill>
                    <a:srgbClr val="000000"/>
                  </a:solidFill>
                  <a:latin typeface="Calibri"/>
                  <a:ea typeface="B Titr"/>
                </a:rPr>
                <a:t>                مقدمه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5" name="Picture 3" descr="C:\Documents and Settings\WIN XP\Desktop\کلپ آرت\introduction-puzzle-pieces-md.png"/>
            <p:cNvPicPr/>
            <p:nvPr/>
          </p:nvPicPr>
          <p:blipFill>
            <a:blip r:embed="rId2"/>
            <a:stretch/>
          </p:blipFill>
          <p:spPr>
            <a:xfrm rot="5400000">
              <a:off x="22815360" y="11327760"/>
              <a:ext cx="1278000" cy="123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6" name="Group 25"/>
          <p:cNvGrpSpPr/>
          <p:nvPr/>
        </p:nvGrpSpPr>
        <p:grpSpPr>
          <a:xfrm>
            <a:off x="18289440" y="24195240"/>
            <a:ext cx="5832720" cy="1218960"/>
            <a:chOff x="18289440" y="24195240"/>
            <a:chExt cx="5832720" cy="1218960"/>
          </a:xfrm>
        </p:grpSpPr>
        <p:sp>
          <p:nvSpPr>
            <p:cNvPr id="507" name="Trapezoid 22"/>
            <p:cNvSpPr/>
            <p:nvPr/>
          </p:nvSpPr>
          <p:spPr>
            <a:xfrm>
              <a:off x="18289440" y="24622200"/>
              <a:ext cx="5591520" cy="609480"/>
            </a:xfrm>
            <a:prstGeom prst="pie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0" lang="fa-IR" sz="3800" spc="-1" strike="noStrike">
                  <a:solidFill>
                    <a:srgbClr val="000000"/>
                  </a:solidFill>
                  <a:latin typeface="Calibri"/>
                  <a:ea typeface="B Titr"/>
                </a:rPr>
                <a:t>           روش تحقیق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Picture 4" descr="C:\Documents and Settings\WIN XP\Desktop\کلپ آرت\edit-paste.png"/>
            <p:cNvPicPr/>
            <p:nvPr/>
          </p:nvPicPr>
          <p:blipFill>
            <a:blip r:embed="rId3">
              <a:grayscl/>
              <a:lum contrast="40000"/>
            </a:blip>
            <a:stretch/>
          </p:blipFill>
          <p:spPr>
            <a:xfrm>
              <a:off x="22741560" y="24195240"/>
              <a:ext cx="138060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9" name="Group 31"/>
          <p:cNvGrpSpPr/>
          <p:nvPr/>
        </p:nvGrpSpPr>
        <p:grpSpPr>
          <a:xfrm>
            <a:off x="2952720" y="11449080"/>
            <a:ext cx="4977000" cy="1143000"/>
            <a:chOff x="2952720" y="11449080"/>
            <a:chExt cx="4977000" cy="1143000"/>
          </a:xfrm>
        </p:grpSpPr>
        <p:sp>
          <p:nvSpPr>
            <p:cNvPr id="510" name="Trapezoid 25"/>
            <p:cNvSpPr/>
            <p:nvPr/>
          </p:nvSpPr>
          <p:spPr>
            <a:xfrm>
              <a:off x="2952720" y="11807640"/>
              <a:ext cx="4977000" cy="603360"/>
            </a:xfrm>
            <a:prstGeom prst="pie">
              <a:avLst/>
            </a:prstGeom>
            <a:solidFill>
              <a:srgbClr val="b90793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0" lang="fa-IR" sz="3800" spc="-1" strike="noStrike">
                  <a:solidFill>
                    <a:srgbClr val="ffffff"/>
                  </a:solidFill>
                  <a:latin typeface="Calibri"/>
                  <a:ea typeface="B Titr"/>
                </a:rPr>
                <a:t>             نتیجه گیری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1" name="Picture 1" descr="C:\Documents and Settings\WIN XP\Desktop\کلپ آرت\Picture1232.jpg"/>
            <p:cNvPicPr/>
            <p:nvPr/>
          </p:nvPicPr>
          <p:blipFill>
            <a:blip r:embed="rId4"/>
            <a:stretch/>
          </p:blipFill>
          <p:spPr>
            <a:xfrm>
              <a:off x="6769440" y="11449080"/>
              <a:ext cx="105408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Trapezoid 28"/>
          <p:cNvSpPr/>
          <p:nvPr/>
        </p:nvSpPr>
        <p:spPr>
          <a:xfrm>
            <a:off x="11229840" y="11748960"/>
            <a:ext cx="4538880" cy="6858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3800" spc="-1" strike="noStrike">
                <a:solidFill>
                  <a:srgbClr val="000000"/>
                </a:solidFill>
                <a:latin typeface="Calibri"/>
                <a:ea typeface="B Titr"/>
              </a:rPr>
              <a:t>               یافته های تحقی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7"/>
          <p:cNvGrpSpPr/>
          <p:nvPr/>
        </p:nvGrpSpPr>
        <p:grpSpPr>
          <a:xfrm>
            <a:off x="2664000" y="24331680"/>
            <a:ext cx="5041800" cy="985680"/>
            <a:chOff x="2664000" y="24331680"/>
            <a:chExt cx="5041800" cy="985680"/>
          </a:xfrm>
        </p:grpSpPr>
        <p:sp>
          <p:nvSpPr>
            <p:cNvPr id="514" name="Trapezoid 31"/>
            <p:cNvSpPr/>
            <p:nvPr/>
          </p:nvSpPr>
          <p:spPr>
            <a:xfrm>
              <a:off x="2664000" y="24687000"/>
              <a:ext cx="4749480" cy="554040"/>
            </a:xfrm>
            <a:prstGeom prst="pi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0" lang="fa-IR" sz="3800" spc="-1" strike="noStrike">
                  <a:solidFill>
                    <a:srgbClr val="000000"/>
                  </a:solidFill>
                  <a:latin typeface="Calibri"/>
                  <a:ea typeface="B Traffic"/>
                </a:rPr>
                <a:t>                </a:t>
              </a:r>
              <a:r>
                <a:rPr b="0" lang="fa-IR" sz="38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منابع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Picture 6" descr="C:\Documents and Settings\WIN XP\Desktop\کلپ آرت\open_book.png"/>
            <p:cNvPicPr/>
            <p:nvPr/>
          </p:nvPicPr>
          <p:blipFill>
            <a:blip r:embed="rId5"/>
            <a:stretch/>
          </p:blipFill>
          <p:spPr>
            <a:xfrm>
              <a:off x="6041160" y="24331680"/>
              <a:ext cx="1664640" cy="98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6" name="Group 1"/>
          <p:cNvGrpSpPr/>
          <p:nvPr/>
        </p:nvGrpSpPr>
        <p:grpSpPr>
          <a:xfrm>
            <a:off x="1138320" y="-986400"/>
            <a:ext cx="21516840" cy="4126320"/>
            <a:chOff x="1138320" y="-986400"/>
            <a:chExt cx="21516840" cy="4126320"/>
          </a:xfrm>
        </p:grpSpPr>
        <p:sp>
          <p:nvSpPr>
            <p:cNvPr id="517" name="TextBox 27"/>
            <p:cNvSpPr/>
            <p:nvPr/>
          </p:nvSpPr>
          <p:spPr>
            <a:xfrm>
              <a:off x="3744000" y="-986400"/>
              <a:ext cx="1891116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1" lang="fa-IR" sz="6600" spc="-1" strike="noStrike">
                  <a:solidFill>
                    <a:srgbClr val="000000"/>
                  </a:solidFill>
                  <a:latin typeface="IranNastaliq"/>
                  <a:ea typeface="B Lotus"/>
                </a:rPr>
                <a:t>             همایش استانی تربیت سیاسی و اجتماعی جایگاه و اقتضائات در تربیت معلم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Picture 9" descr=""/>
            <p:cNvPicPr/>
            <p:nvPr/>
          </p:nvPicPr>
          <p:blipFill>
            <a:blip r:embed="rId6"/>
            <a:stretch/>
          </p:blipFill>
          <p:spPr>
            <a:xfrm>
              <a:off x="1138320" y="504360"/>
              <a:ext cx="2029680" cy="263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9" name="Picture 28" descr=""/>
          <p:cNvPicPr/>
          <p:nvPr/>
        </p:nvPicPr>
        <p:blipFill>
          <a:blip r:embed="rId7"/>
          <a:stretch/>
        </p:blipFill>
        <p:spPr>
          <a:xfrm>
            <a:off x="14762160" y="11221920"/>
            <a:ext cx="102888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15:46Z</dcterms:created>
  <dc:creator>WIN XP</dc:creator>
  <dc:description/>
  <dc:language>en-US</dc:language>
  <cp:lastModifiedBy>ketab</cp:lastModifiedBy>
  <dcterms:modified xsi:type="dcterms:W3CDTF">2015-11-17T04:32:08Z</dcterms:modified>
  <cp:revision>18</cp:revision>
  <dc:subject/>
  <dc:title>Slide 1</dc:title>
</cp:coreProperties>
</file>