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کنفرانس بین المللی توسعه آموزش عالی فرامرزی: فرصت ها و چالش 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7456-4A25-4806-8B69-37013C1C287D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Header Placeholder 4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کنفرانس بین المللی توسعه آموزش عالی فرامرزی: فرصت ها و چالش ه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BE54-022C-4323-9167-F17B0872B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4F6-A5C2-42A5-BA42-860AF83E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87C7-70E2-4CB5-AAA7-1D177FD4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DCBC-5D9D-41F0-8586-97F79CC9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C69C-8620-4A1F-AD5C-EB864724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FD7-ED85-44FD-9F6D-BE24551B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E073-849E-4DE7-ABA8-EEB2581C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99CF-C0ED-4E2D-93F6-B5125EEE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EBA0-715E-4250-85E4-AE9A78DD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3D06-609C-48AD-A624-4DC12FB9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16D6-9DE0-474D-806B-763722BB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5EA-DD0C-4C72-9027-9E4148D1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9C44-1902-4296-97A9-1E87CE9A09A8}" type="datetime">
              <a:rPr b="0" lang="fa-IR" sz="1200" spc="-1" strike="noStrike">
                <a:solidFill>
                  <a:srgbClr val="898989"/>
                </a:solidFill>
                <a:latin typeface="Calibri"/>
              </a:rPr>
              <a:t>۲۰۲۶/۰۷/۲۸</a:t>
            </a:fld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C37CB6D-4E9A-4B45-8C13-1B697DBD7DB0}" type="datetime10">
              <a:rPr b="0" lang="fa-IR" sz="1200" spc="-1" strike="noStrike">
                <a:solidFill>
                  <a:srgbClr val="898989"/>
                </a:solidFill>
                <a:latin typeface="Calibri"/>
              </a:rPr>
              <a:t>۰۹:۳۴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FEFF9-831C-48A5-A09B-9319EEE3FF2A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9"/>
          <p:cNvSpPr/>
          <p:nvPr/>
        </p:nvSpPr>
        <p:spPr>
          <a:xfrm>
            <a:off x="0" y="0"/>
            <a:ext cx="9144000" cy="1511280"/>
          </a:xfrm>
          <a:prstGeom prst="roundRect">
            <a:avLst>
              <a:gd name="adj" fmla="val 2769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500200" y="27795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Calibri"/>
                <a:cs typeface="B Titr"/>
              </a:rPr>
              <a:t>عنوان مقا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928800" y="4508640"/>
            <a:ext cx="7286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Titr"/>
              </a:rPr>
              <a:t>نویسنده/نویسندگان مقال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Titr"/>
              </a:rPr>
              <a:t>در مقالات با بیش از یک نویسنده، نام ارائه کننده مقاله با یک علامت ستاره مشخص شو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"/>
          <p:cNvGrpSpPr/>
          <p:nvPr/>
        </p:nvGrpSpPr>
        <p:grpSpPr>
          <a:xfrm>
            <a:off x="676440" y="115920"/>
            <a:ext cx="8092800" cy="1543320"/>
            <a:chOff x="676440" y="115920"/>
            <a:chExt cx="8092800" cy="1543320"/>
          </a:xfrm>
        </p:grpSpPr>
        <p:sp>
          <p:nvSpPr>
            <p:cNvPr id="52" name="TextBox 27"/>
            <p:cNvSpPr/>
            <p:nvPr/>
          </p:nvSpPr>
          <p:spPr>
            <a:xfrm>
              <a:off x="676440" y="285480"/>
              <a:ext cx="6437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IranNastaliq"/>
                  <a:cs typeface="B Lotus"/>
                </a:rPr>
                <a:t>همایش استانی تربیت سیاسی و اجتماع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0000"/>
                  </a:solidFill>
                  <a:latin typeface="IranNastaliq"/>
                  <a:cs typeface="B Lotus"/>
                </a:rPr>
                <a:t>جایگاه و اقتضائات در تربیت معل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Picture 9" descr=""/>
            <p:cNvPicPr/>
            <p:nvPr/>
          </p:nvPicPr>
          <p:blipFill>
            <a:blip r:embed="rId1"/>
            <a:stretch/>
          </p:blipFill>
          <p:spPr>
            <a:xfrm>
              <a:off x="7350120" y="115920"/>
              <a:ext cx="1419120" cy="1368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7"/>
          <p:cNvSpPr/>
          <p:nvPr/>
        </p:nvSpPr>
        <p:spPr>
          <a:xfrm>
            <a:off x="1071720" y="1495440"/>
            <a:ext cx="7143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اسلایدها به صورت افقی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محتوای هر اسلاید دارای اطلاعات و داده های زیاد نباش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Calibri"/>
                <a:ea typeface="B Yekan"/>
              </a:rPr>
              <a:t> </a:t>
            </a:r>
            <a:r>
              <a:rPr b="1" lang="fa-IR" sz="2000" spc="-1" strike="noStrike">
                <a:solidFill>
                  <a:srgbClr val="ff0000"/>
                </a:solidFill>
                <a:latin typeface="Calibri"/>
                <a:cs typeface="B Yekan"/>
              </a:rPr>
              <a:t>نکات اصلی </a:t>
            </a: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در هر اسلاید مشخص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سعی شود بیش از متن، از عکس، شکل و نمودار استفاده شو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رنگ هایی انتخاب شوند که به خوبی دیده می شو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000" spc="-1" strike="noStrike">
                <a:solidFill>
                  <a:srgbClr val="000000"/>
                </a:solidFill>
                <a:latin typeface="Calibri"/>
                <a:cs typeface="B Yekan"/>
              </a:rPr>
              <a:t>اسلایدها بدون غلط های املایی و نگارشی باشن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3492360" y="6443640"/>
            <a:ext cx="550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  <a:cs typeface="B Yekan"/>
              </a:rPr>
              <a:t>عنوان مقاله: 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0" y="0"/>
            <a:ext cx="9144000" cy="1511280"/>
          </a:xfrm>
          <a:prstGeom prst="roundRect">
            <a:avLst>
              <a:gd name="adj" fmla="val 27699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IranNastaliq"/>
                <a:cs typeface="B Lotus"/>
              </a:rPr>
              <a:t>عنوان اسلای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20:13:35Z</dcterms:created>
  <dc:creator>WIN XP</dc:creator>
  <dc:description/>
  <dc:language>en-US</dc:language>
  <cp:lastModifiedBy>heidary</cp:lastModifiedBy>
  <dcterms:modified xsi:type="dcterms:W3CDTF">2015-11-04T05:40:36Z</dcterms:modified>
  <cp:revision>13</cp:revision>
  <dc:subject/>
  <dc:title>Slide 1</dc:title>
</cp:coreProperties>
</file>