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25203150" cy="36002913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143B-8E30-4F17-8235-19D878F9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DF00-70C4-4862-BDA0-27783DA1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EFA87-E7D3-4076-A022-F4BB461D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4C01A-6D7D-4FAB-8605-DDDA3399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31590-8C06-4573-A9B5-4B362C0E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3166F-DF40-4A79-AFC5-0934B8D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CF6A9-87BD-406D-8C6F-8BE426E1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5577B-9507-40AD-834B-4C3927117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21435-F6C5-4EA1-B644-A54CAC5A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791A9-1A6E-4CDF-B7B2-60596ABA3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236600-98FB-4A4C-8725-623C63F7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862C4-3707-449A-AF12-2AE8CD46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BFE7-242E-4893-A76D-D8BA3D4CA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9DB06-6059-4175-AA26-5B97DCB9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D11FAA-BD9E-4585-9921-1A6C0E90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0EEE3-C875-4257-9652-8B6618BA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37FBD-D029-42DB-9530-C50DFD76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CBE5CA-480F-4CE9-8191-11C73D72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E3930-33D0-4381-968C-AA179F3F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EB6EC-BF7C-457B-A8DD-90C237C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5390C-6D2A-4745-8750-471E6B9F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6FC6D0-82E7-4ADB-97C8-70961C52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1FB7FC-4895-4E68-AB1E-7D050BA37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6EC9-7FEF-48AA-B3C4-87416A8E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8522A6-652B-4806-B99A-364B1C82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B7B504-3C92-4DFA-9CA1-FC7CFB9D3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AAF0F-0A62-4BB7-97CF-60D0ED50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6FF2E6-F17D-4FC2-96A0-1976E5CB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E3546-1311-4721-9AE7-D3330A03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027A5-C024-43C9-A20B-4C71B4BE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CEC397-7D2E-4640-AB67-7F3D1A565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BA1A7-C972-4B53-9890-681916D1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82F69D-CD80-4E62-923F-32611E80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DF3EB-11DF-4682-A77C-0B5242E1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0E6F-35B2-40C7-897A-FA787F4E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9296E-2158-4DD1-B781-C45B1D5A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5A719-6F48-4772-A650-AEDBD84B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7681D-6E7E-4726-9A1D-607C9FF5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F976B9-F201-41E9-A739-B6ECE74D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5F5A0-52BB-4BFE-A693-2A50AEBA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21B1B3-E00B-40EB-97A1-06C39838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492E2-91A1-4DF2-B18D-23E14DF2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6C9AE6-134A-43B0-B438-917C44D8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0EB31-7CD6-4476-A23C-06B178DC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C6CD51-51F0-4320-81DD-78A3E90B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63AF-F8F7-4F47-8EC7-954152FF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CE6A9-4E05-482A-B9EB-BF83D402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28C41A-3E08-4B0D-86DD-46DCFF93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18FCBC-A626-4C62-89B9-5BF81CFD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BB75D-D0CF-4027-9C97-FA54BB37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E798C-515C-4799-B251-9AF5AA730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7EF7-CFE2-4BBF-8FA4-1B638617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8F65B-D946-4675-BC01-E8A9385B1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AEEFE-F722-46F5-9BCC-AB60504E4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7D78-29F6-46C6-B98B-41CAD35D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AD3E-DC3C-41A3-8C3F-376B9716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712-9AFB-4D63-B60C-C82EF77A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92B7-FE4C-4C28-852D-96C19405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A61E-C1FD-437C-8377-BD0928C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8A54A-16C3-4A67-8767-01CD1A03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9248-1BEC-4E34-AD71-B3E7FD341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915F-8BCD-4C42-A167-BEF83F28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6BB42-94E1-4E0E-A5CE-230143518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E1F22-BF28-4478-B2EB-5E53D4F1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AA708-7C54-41E1-837E-0D9BDC2B1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BC8C-CA0A-4B68-9F9A-77B530E2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D3274-6501-48A5-9476-5E24B495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91E-AAF1-421C-8F3E-3ACF1583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D1557-BE76-4531-B031-E4B9DFE9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E32ED-7B48-448B-9C62-6C87863A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0FB0-FD28-4984-9C37-5BD9D26F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6F8B2-D055-448D-B9B2-F4A4A177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8D1AC-84E1-47B9-B71F-F7784223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B0E97-A0E4-4C7D-A66E-4677DA110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29AA-A212-410E-AE53-1F7AACB0E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5C624-0A3E-4EE8-A6E8-22641E802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7500F-58F7-458D-A458-C61A43D9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0395B-5203-4A15-9780-A83F7CAA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A88E-1226-46D0-9CCC-14C14C5A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D6E7B-20F7-434D-93C4-EAA62C52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A3653-21E6-439D-A301-4719F076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42412-CC52-49F4-8167-8B532EBD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21055-377F-4391-8D5A-9818A477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A07E9-669C-40AB-9EB9-37BA7AE2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FB132-4AF2-44E8-9411-94497A2A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07C2-4836-424B-8C91-A423B1B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62F56-6EF3-4A9A-8312-ED7EF785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5951C-5C41-4A29-8D5C-A0852732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08BB1-AAD5-42BF-9752-DE007A7CF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B2BD-FB38-4240-B9F5-D7B80105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A5BDA-5FDF-48CC-AF11-49EC384BC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6054C-D614-4EDF-9C05-F47D1A5D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095B-5D90-4E1F-A697-54D82889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AB90-727E-446E-B9AC-20280BC0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6C843F-551E-40F2-92B1-A59E2F89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9F44D-928D-4D9A-BFCA-20C9C636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E41E5-64F1-4137-B8F0-91B289FD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4E5B9-CE2D-41B0-AADA-985F6DD2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7B455-8184-4576-B605-9DF18F42A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FC3B2-4C14-478E-AFC6-CC7963C5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92C-C1F6-4848-A5CC-5415ECD3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3EA4F-C34E-4866-BF69-2B6B6C53F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1183A-DEDA-4D1D-9685-916F49EA8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431C8-C194-4FDD-8E8B-3F68E99B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6854A-286F-4FB7-BA00-F0347D2A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F8D60-3B52-4E78-8057-033483D5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76E9E-1B0D-4358-8201-D19BE573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CC770-D5E8-41D6-8489-D44732C9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EACE2-93F3-45B6-B139-EBD77F9C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5E81C-FEC5-4E4C-80B0-C5642FD0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7B21C-0E1E-42F9-BDA9-5A5CD388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CCD0-BA0D-4E3E-802E-F6434794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C968AC-346D-4189-935A-4C6DEBA20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7A5C6-4827-49A3-8C1B-FE5828E6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E227E-C972-4054-B580-0CD79F8E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4A23-A6F4-45D9-9A36-105D954BB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0C199-7452-4961-BEE3-7B3CD98C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AC4AB-5F14-481F-A2BC-4E56B852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1AB82-8E52-47D1-89A6-7BC068DC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1A1F0-E523-4844-A01C-F32730F8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51E0E-9EA1-4884-A52D-6C6B5D52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C3CAA-EA66-4137-B5C6-1A2236F6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95EB-FC60-4068-9CF5-DD71687C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965AD-8644-4606-B22E-D219690E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15C33-AA82-4956-9571-7E94B60D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2A81A-1E1E-466B-A483-13812E98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123D3-F735-4128-9401-9D99A049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4F810-4211-43F8-9085-903F45F1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2506D-267D-46F8-8875-90E85A0B5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759D3-6A93-49BC-A067-B5E7E8827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0F27C-93B9-4E12-8863-CC8A9CCB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0454B-3567-467C-8749-0F5F9D3F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DD482-8EC2-49FC-9977-88C1AFC4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881-0020-414A-BF71-210CB2D14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260360" y="1441080"/>
            <a:ext cx="22682160" cy="278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3050"/>
              </a:spcBef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0CBA4-50D4-47A7-9E3F-0ECC0431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34570-92D0-48EF-BB35-7F388411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C02BE-A52C-4DA5-B533-A945E656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8DB556-5BAF-4831-AE80-C855AA658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260360" y="20811960"/>
            <a:ext cx="226821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9833BC-C2FD-4070-A924-6359BAD0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2882600" y="840060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26036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12882600" y="20811960"/>
            <a:ext cx="1106856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1BE21A-3602-402C-95CE-A1BC7BA42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892908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6598160" y="840060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2603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892908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16598160" y="20811960"/>
            <a:ext cx="7303320" cy="113342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A4D62-76C0-4A23-BBE2-59F25FC24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BAC8BC-32F2-4335-BD35-7C08E5B0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3050"/>
              </a:spcBef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F72DB-79D0-4A17-A232-43101B0A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indent="0" algn="r" rtl="1">
              <a:spcBef>
                <a:spcPts val="3050"/>
              </a:spcBef>
              <a:buNone/>
              <a:tabLst>
                <a:tab algn="l" pos="3497400"/>
                <a:tab algn="l" pos="6994440"/>
                <a:tab algn="l" pos="10491840"/>
              </a:tabLst>
            </a:pP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20B08-79AE-4AC1-AA5F-5A253471C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704C7372-D93C-4733-AFFA-0335DE8C87EA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24710181-0C21-4BB8-87B2-9ED9645D96CD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5503E06C-0B3E-46C4-B1D3-E96ED105E5AF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44477582-27E6-49D9-ADB9-AB81886B44DB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A0EEF5CE-F9DC-4058-ACBD-CB7BAE9C97C8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C810996B-1E1A-4FA5-8E69-8E2A9A700DF5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A41C1AA3-550F-4260-B6FC-E04743620A25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32B4E3AB-0C29-478C-9FF9-03D6F88B0DB8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B1E8CC5C-E65F-4DDD-B158-2986EB1FD883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C3FC31A8-2FC0-4AE9-BD47-87C940957BDF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03CE4CB7-B451-40C7-98AD-E510BBA02A2E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0360" y="1441080"/>
            <a:ext cx="22682160" cy="600084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ctr" rtl="1">
              <a:buNone/>
              <a:tabLst>
                <a:tab algn="l" pos="0"/>
                <a:tab algn="l" pos="3497400"/>
                <a:tab algn="l" pos="6994440"/>
                <a:tab algn="l" pos="10491840"/>
              </a:tabLst>
            </a:pPr>
            <a:r>
              <a:rPr b="0" lang="en-US" sz="16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60360" y="8400600"/>
            <a:ext cx="22682160" cy="2376180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t">
            <a:normAutofit/>
          </a:bodyPr>
          <a:p>
            <a:pPr marL="1311120" indent="-131112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1" marL="2841480" indent="-109188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2" marL="43718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•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3" marL="61196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–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4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5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  <a:p>
            <a:pPr lvl="6" marL="7869240" indent="-873000" algn="r" rtl="1">
              <a:spcBef>
                <a:spcPts val="3050"/>
              </a:spcBef>
              <a:buClr>
                <a:srgbClr val="000000"/>
              </a:buClr>
              <a:buFont typeface="Arial"/>
              <a:buChar char="»"/>
              <a:tabLst>
                <a:tab algn="l" pos="3497400"/>
                <a:tab algn="l" pos="6994440"/>
                <a:tab algn="l" pos="10491840"/>
              </a:tabLst>
            </a:pPr>
            <a:r>
              <a:rPr b="0" lang="en-US" sz="1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18062280" y="33370560"/>
            <a:ext cx="587988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46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8610480" y="33370560"/>
            <a:ext cx="798192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p>
            <a:pPr indent="0" algn="r" rtl="1"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1260360" y="33370560"/>
            <a:ext cx="5880240" cy="1917720"/>
          </a:xfrm>
          <a:prstGeom prst="rect">
            <a:avLst/>
          </a:prstGeom>
          <a:noFill/>
          <a:ln w="0">
            <a:noFill/>
          </a:ln>
        </p:spPr>
        <p:txBody>
          <a:bodyPr lIns="349920" rIns="349920" tIns="174960" bIns="1749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  <a:defRPr b="0" lang="fa-IR" sz="46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3495600"/>
                <a:tab algn="l" pos="6991200"/>
                <a:tab algn="l" pos="10487160"/>
              </a:tabLst>
            </a:pPr>
            <a:fld id="{2F2E9171-B291-4415-8ADE-ADD62882451F}" type="slidenum">
              <a:rPr b="0" lang="fa-IR" sz="4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Box 3"/>
          <p:cNvSpPr/>
          <p:nvPr/>
        </p:nvSpPr>
        <p:spPr>
          <a:xfrm>
            <a:off x="4295880" y="3600360"/>
            <a:ext cx="16535160" cy="2498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5000" spc="-1" strike="noStrike">
                <a:solidFill>
                  <a:srgbClr val="000000"/>
                </a:solidFill>
                <a:latin typeface="Calibri"/>
                <a:cs typeface="B Titr"/>
              </a:rPr>
              <a:t>عنوان مقاله : 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B Titr"/>
              </a:rPr>
              <a:t>B titr</a:t>
            </a:r>
            <a:r>
              <a:rPr b="1" lang="en-US" sz="5000" spc="-1" strike="noStrike">
                <a:solidFill>
                  <a:srgbClr val="000000"/>
                </a:solidFill>
                <a:latin typeface="Calibri"/>
                <a:ea typeface="B Titr"/>
              </a:rPr>
              <a:t>  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ea typeface="B Titr"/>
              </a:rPr>
              <a:t> با سایز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ea typeface="B Titr"/>
              </a:rPr>
              <a:t>48</a:t>
            </a:r>
            <a:r>
              <a:rPr b="1" lang="fa-IR" sz="5000" spc="-1" strike="noStrike">
                <a:solidFill>
                  <a:srgbClr val="000000"/>
                </a:solidFill>
                <a:latin typeface="Calibri"/>
                <a:cs typeface="B Titr"/>
              </a:rPr>
              <a:t>، به صورت تو پر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اسامی نویسندگان </a:t>
            </a:r>
            <a:r>
              <a:rPr b="1" lang="fa-IR" sz="3100" spc="-1" strike="noStrike" baseline="30000">
                <a:solidFill>
                  <a:srgbClr val="000000"/>
                </a:solidFill>
                <a:latin typeface="Calibri"/>
                <a:ea typeface="B Traffic"/>
              </a:rPr>
              <a:t>1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: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 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اسامی نویسندگان </a:t>
            </a:r>
            <a:r>
              <a:rPr b="1" lang="fa-IR" sz="3100" spc="-1" strike="noStrike" baseline="30000">
                <a:solidFill>
                  <a:srgbClr val="000000"/>
                </a:solidFill>
                <a:latin typeface="Calibri"/>
                <a:ea typeface="B Traffic"/>
              </a:rPr>
              <a:t>2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: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 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95600"/>
                <a:tab algn="l" pos="6991200"/>
                <a:tab algn="l" pos="1048716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Calibri"/>
                <a:cs typeface="B Traffic"/>
              </a:rPr>
              <a:t>درجه علمی نویسندگان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 با سایز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2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3495600"/>
                <a:tab algn="l" pos="6991200"/>
                <a:tab algn="l" pos="10487160"/>
              </a:tabLst>
            </a:pPr>
            <a:r>
              <a:rPr b="1" lang="fa-IR" sz="2300" spc="-1" strike="noStrike">
                <a:solidFill>
                  <a:srgbClr val="000000"/>
                </a:solidFill>
                <a:latin typeface="Calibri"/>
                <a:cs typeface="B Traffic"/>
              </a:rPr>
              <a:t>درجه علمی نویسندگان 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 با سایز </a:t>
            </a:r>
            <a:r>
              <a:rPr b="1" lang="fa-IR" sz="2300" spc="-1" strike="noStrike">
                <a:solidFill>
                  <a:srgbClr val="000000"/>
                </a:solidFill>
                <a:latin typeface="Calibri"/>
                <a:ea typeface="B Traffic"/>
              </a:rPr>
              <a:t>2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4"/>
          <p:cNvSpPr/>
          <p:nvPr/>
        </p:nvSpPr>
        <p:spPr>
          <a:xfrm>
            <a:off x="1400040" y="7334280"/>
            <a:ext cx="22936320" cy="39168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fa-IR" sz="3100" spc="-1" strike="noStrike">
                <a:solidFill>
                  <a:srgbClr val="000000"/>
                </a:solidFill>
                <a:latin typeface="Calibri"/>
                <a:cs typeface="B Traffic"/>
              </a:rPr>
              <a:t>متن چکیده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چکیده از قلم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30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با فونت </a:t>
            </a:r>
            <a:r>
              <a:rPr b="1" lang="en-US" sz="31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1" lang="fa-IR" sz="3100" spc="-1" strike="noStrike">
                <a:solidFill>
                  <a:srgbClr val="000000"/>
                </a:solidFill>
                <a:latin typeface="Calibri"/>
                <a:ea typeface="B Traffic"/>
              </a:rPr>
              <a:t> و به صورت تو پر استفاده شود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6"/>
          <p:cNvSpPr/>
          <p:nvPr/>
        </p:nvSpPr>
        <p:spPr>
          <a:xfrm>
            <a:off x="16640280" y="12592080"/>
            <a:ext cx="7924680" cy="10790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این قسمت، اهمیت و ضرورت پژوهش و همچنین پیشینه پژوهش می آی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8"/>
          <p:cNvSpPr/>
          <p:nvPr/>
        </p:nvSpPr>
        <p:spPr>
          <a:xfrm>
            <a:off x="13897080" y="28899000"/>
            <a:ext cx="1043928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6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9"/>
          <p:cNvSpPr/>
          <p:nvPr/>
        </p:nvSpPr>
        <p:spPr>
          <a:xfrm>
            <a:off x="16633800" y="25563600"/>
            <a:ext cx="7924680" cy="83214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وش تحقی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21"/>
          <p:cNvSpPr/>
          <p:nvPr/>
        </p:nvSpPr>
        <p:spPr>
          <a:xfrm>
            <a:off x="8258040" y="12592080"/>
            <a:ext cx="7925040" cy="210772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3"/>
          <p:cNvSpPr/>
          <p:nvPr/>
        </p:nvSpPr>
        <p:spPr>
          <a:xfrm>
            <a:off x="561960" y="12592080"/>
            <a:ext cx="7315200" cy="1120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نتیجه گیر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25"/>
          <p:cNvSpPr/>
          <p:nvPr/>
        </p:nvSpPr>
        <p:spPr>
          <a:xfrm>
            <a:off x="561960" y="25470000"/>
            <a:ext cx="7238880" cy="873288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مراج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ر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متن فارسی از قلم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B Traffic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B Traffic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8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متن انگلیسی از قلم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s New Roman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cs typeface="B Traffic"/>
              </a:rPr>
              <a:t>در سایز 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26</a:t>
            </a:r>
            <a:r>
              <a:rPr b="0" lang="fa-IR" sz="2700" spc="-1" strike="noStrike">
                <a:solidFill>
                  <a:srgbClr val="000000"/>
                </a:solidFill>
                <a:latin typeface="Calibri"/>
                <a:ea typeface="B Traffic"/>
              </a:rPr>
              <a:t> استفاده شود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9"/>
          <p:cNvGrpSpPr/>
          <p:nvPr/>
        </p:nvGrpSpPr>
        <p:grpSpPr>
          <a:xfrm>
            <a:off x="18375480" y="5832360"/>
            <a:ext cx="5924520" cy="1349640"/>
            <a:chOff x="18375480" y="5832360"/>
            <a:chExt cx="5924520" cy="1349640"/>
          </a:xfrm>
        </p:grpSpPr>
        <p:sp>
          <p:nvSpPr>
            <p:cNvPr id="501" name="Trapezoid 16"/>
            <p:cNvSpPr/>
            <p:nvPr/>
          </p:nvSpPr>
          <p:spPr>
            <a:xfrm>
              <a:off x="18375480" y="6391080"/>
              <a:ext cx="5892480" cy="790920"/>
            </a:xfrm>
            <a:prstGeom prst="pie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  چکید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5" descr="C:\Documents and Settings\WIN XP\Desktop\کلپ آرت\mcol_magnifying_glass.png"/>
            <p:cNvPicPr/>
            <p:nvPr/>
          </p:nvPicPr>
          <p:blipFill>
            <a:blip r:embed="rId1"/>
            <a:stretch/>
          </p:blipFill>
          <p:spPr>
            <a:xfrm>
              <a:off x="22971240" y="5832360"/>
              <a:ext cx="1328760" cy="119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3" name="Group 22"/>
          <p:cNvGrpSpPr/>
          <p:nvPr/>
        </p:nvGrpSpPr>
        <p:grpSpPr>
          <a:xfrm>
            <a:off x="18637200" y="11306160"/>
            <a:ext cx="5558040" cy="1278000"/>
            <a:chOff x="18637200" y="11306160"/>
            <a:chExt cx="5558040" cy="1278000"/>
          </a:xfrm>
        </p:grpSpPr>
        <p:sp>
          <p:nvSpPr>
            <p:cNvPr id="504" name="Trapezoid 19"/>
            <p:cNvSpPr/>
            <p:nvPr/>
          </p:nvSpPr>
          <p:spPr>
            <a:xfrm>
              <a:off x="18637200" y="11775960"/>
              <a:ext cx="5558040" cy="577800"/>
            </a:xfrm>
            <a:prstGeom prst="pie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     مقدمه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Picture 3" descr="C:\Documents and Settings\WIN XP\Desktop\کلپ آرت\introduction-puzzle-pieces-md.png"/>
            <p:cNvPicPr/>
            <p:nvPr/>
          </p:nvPicPr>
          <p:blipFill>
            <a:blip r:embed="rId2"/>
            <a:stretch/>
          </p:blipFill>
          <p:spPr>
            <a:xfrm rot="5400000">
              <a:off x="22815360" y="11327760"/>
              <a:ext cx="1278000" cy="1234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Group 25"/>
          <p:cNvGrpSpPr/>
          <p:nvPr/>
        </p:nvGrpSpPr>
        <p:grpSpPr>
          <a:xfrm>
            <a:off x="18289440" y="24195240"/>
            <a:ext cx="5832720" cy="1218960"/>
            <a:chOff x="18289440" y="24195240"/>
            <a:chExt cx="5832720" cy="1218960"/>
          </a:xfrm>
        </p:grpSpPr>
        <p:sp>
          <p:nvSpPr>
            <p:cNvPr id="507" name="Trapezoid 22"/>
            <p:cNvSpPr/>
            <p:nvPr/>
          </p:nvSpPr>
          <p:spPr>
            <a:xfrm>
              <a:off x="18289440" y="24622200"/>
              <a:ext cx="5591520" cy="609480"/>
            </a:xfrm>
            <a:prstGeom prst="pie">
              <a:avLst/>
            </a:prstGeom>
            <a:gradFill rotWithShape="0">
              <a:gsLst>
                <a:gs pos="0">
                  <a:srgbClr val="ffbe86"/>
                </a:gs>
                <a:gs pos="100000">
                  <a:srgbClr val="ffebdb"/>
                </a:gs>
              </a:gsLst>
              <a:lin ang="16200000"/>
            </a:gradFill>
            <a:ln w="9360">
              <a:solidFill>
                <a:srgbClr val="f6924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itr"/>
                </a:rPr>
                <a:t>           روش تحقیق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4" descr="C:\Documents and Settings\WIN XP\Desktop\کلپ آرت\edit-paste.png"/>
            <p:cNvPicPr/>
            <p:nvPr/>
          </p:nvPicPr>
          <p:blipFill>
            <a:blip r:embed="rId3">
              <a:grayscl/>
              <a:lum contrast="40000"/>
            </a:blip>
            <a:stretch/>
          </p:blipFill>
          <p:spPr>
            <a:xfrm>
              <a:off x="22741560" y="24195240"/>
              <a:ext cx="1380600" cy="1218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Group 31"/>
          <p:cNvGrpSpPr/>
          <p:nvPr/>
        </p:nvGrpSpPr>
        <p:grpSpPr>
          <a:xfrm>
            <a:off x="2952720" y="11449080"/>
            <a:ext cx="4977000" cy="1143000"/>
            <a:chOff x="2952720" y="11449080"/>
            <a:chExt cx="4977000" cy="1143000"/>
          </a:xfrm>
        </p:grpSpPr>
        <p:sp>
          <p:nvSpPr>
            <p:cNvPr id="510" name="Trapezoid 25"/>
            <p:cNvSpPr/>
            <p:nvPr/>
          </p:nvSpPr>
          <p:spPr>
            <a:xfrm>
              <a:off x="2952720" y="11807640"/>
              <a:ext cx="4977000" cy="603360"/>
            </a:xfrm>
            <a:prstGeom prst="pie">
              <a:avLst/>
            </a:prstGeom>
            <a:solidFill>
              <a:srgbClr val="b90793"/>
            </a:solidFill>
            <a:ln w="9360">
              <a:solidFill>
                <a:srgbClr val="be4b48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ffffff"/>
                  </a:solidFill>
                  <a:latin typeface="Calibri"/>
                  <a:ea typeface="B Titr"/>
                </a:rPr>
                <a:t>             نتیجه گیری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1" descr="C:\Documents and Settings\WIN XP\Desktop\کلپ آرت\Picture1232.jpg"/>
            <p:cNvPicPr/>
            <p:nvPr/>
          </p:nvPicPr>
          <p:blipFill>
            <a:blip r:embed="rId4"/>
            <a:stretch/>
          </p:blipFill>
          <p:spPr>
            <a:xfrm>
              <a:off x="6769440" y="11449080"/>
              <a:ext cx="10540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Trapezoid 28"/>
          <p:cNvSpPr/>
          <p:nvPr/>
        </p:nvSpPr>
        <p:spPr>
          <a:xfrm>
            <a:off x="11229840" y="11748960"/>
            <a:ext cx="4538880" cy="685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3495600"/>
                <a:tab algn="l" pos="6991200"/>
                <a:tab algn="l" pos="10487160"/>
              </a:tabLst>
            </a:pPr>
            <a:r>
              <a:rPr b="0" lang="fa-IR" sz="3800" spc="-1" strike="noStrike">
                <a:solidFill>
                  <a:srgbClr val="000000"/>
                </a:solidFill>
                <a:latin typeface="Calibri"/>
                <a:ea typeface="B Titr"/>
              </a:rPr>
              <a:t>               یافته های تحقی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7"/>
          <p:cNvGrpSpPr/>
          <p:nvPr/>
        </p:nvGrpSpPr>
        <p:grpSpPr>
          <a:xfrm>
            <a:off x="2664000" y="24331680"/>
            <a:ext cx="5041800" cy="985680"/>
            <a:chOff x="2664000" y="24331680"/>
            <a:chExt cx="5041800" cy="985680"/>
          </a:xfrm>
        </p:grpSpPr>
        <p:sp>
          <p:nvSpPr>
            <p:cNvPr id="514" name="Trapezoid 31"/>
            <p:cNvSpPr/>
            <p:nvPr/>
          </p:nvSpPr>
          <p:spPr>
            <a:xfrm>
              <a:off x="2664000" y="24687000"/>
              <a:ext cx="4749480" cy="554040"/>
            </a:xfrm>
            <a:prstGeom prst="pie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ea typeface="B Traffic"/>
                </a:rPr>
                <a:t>                </a:t>
              </a:r>
              <a:r>
                <a:rPr b="0" lang="fa-IR" sz="3800" spc="-1" strike="noStrike">
                  <a:solidFill>
                    <a:srgbClr val="000000"/>
                  </a:solidFill>
                  <a:latin typeface="Calibri"/>
                  <a:cs typeface="B Titr"/>
                </a:rPr>
                <a:t>منابع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C:\Documents and Settings\WIN XP\Desktop\کلپ آرت\open_book.png"/>
            <p:cNvPicPr/>
            <p:nvPr/>
          </p:nvPicPr>
          <p:blipFill>
            <a:blip r:embed="rId5"/>
            <a:stretch/>
          </p:blipFill>
          <p:spPr>
            <a:xfrm>
              <a:off x="6041160" y="24331680"/>
              <a:ext cx="1664640" cy="98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6" name="Group 1"/>
          <p:cNvGrpSpPr/>
          <p:nvPr/>
        </p:nvGrpSpPr>
        <p:grpSpPr>
          <a:xfrm>
            <a:off x="1138320" y="-986400"/>
            <a:ext cx="21516840" cy="4126320"/>
            <a:chOff x="1138320" y="-986400"/>
            <a:chExt cx="21516840" cy="4126320"/>
          </a:xfrm>
        </p:grpSpPr>
        <p:sp>
          <p:nvSpPr>
            <p:cNvPr id="517" name="TextBox 27"/>
            <p:cNvSpPr/>
            <p:nvPr/>
          </p:nvSpPr>
          <p:spPr>
            <a:xfrm>
              <a:off x="3744000" y="-986400"/>
              <a:ext cx="18911160" cy="31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3495600"/>
                  <a:tab algn="l" pos="6991200"/>
                  <a:tab algn="l" pos="10487160"/>
                </a:tabLst>
              </a:pPr>
              <a:r>
                <a:rPr b="1" lang="fa-IR" sz="6600" spc="-1" strike="noStrike">
                  <a:solidFill>
                    <a:srgbClr val="000000"/>
                  </a:solidFill>
                  <a:latin typeface="IranNastaliq"/>
                  <a:ea typeface="B Lotus"/>
                </a:rPr>
                <a:t>             همایش استانی تربیت سیاسی و اجتماعی جایگاه و اقتضائات در تربیت معلم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8" name="Picture 9" descr=""/>
            <p:cNvPicPr/>
            <p:nvPr/>
          </p:nvPicPr>
          <p:blipFill>
            <a:blip r:embed="rId6"/>
            <a:stretch/>
          </p:blipFill>
          <p:spPr>
            <a:xfrm>
              <a:off x="1138320" y="504360"/>
              <a:ext cx="2029680" cy="263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9" name="Picture 28" descr=""/>
          <p:cNvPicPr/>
          <p:nvPr/>
        </p:nvPicPr>
        <p:blipFill>
          <a:blip r:embed="rId7"/>
          <a:stretch/>
        </p:blipFill>
        <p:spPr>
          <a:xfrm>
            <a:off x="14762160" y="11221920"/>
            <a:ext cx="102888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15:46Z</dcterms:created>
  <dc:creator>WIN XP</dc:creator>
  <dc:description/>
  <dc:language>en-US</dc:language>
  <cp:lastModifiedBy>ketab</cp:lastModifiedBy>
  <dcterms:modified xsi:type="dcterms:W3CDTF">2015-11-17T04:32:08Z</dcterms:modified>
  <cp:revision>18</cp:revision>
  <dc:subject/>
  <dc:title>Slide 1</dc:title>
</cp:coreProperties>
</file>