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2AE0-335F-45ED-9EC3-AA719E559FD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ader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134-09D0-443D-821B-DC8812CF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0E8-7850-478E-821B-4B0A26F7B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1F9-E92B-4E8E-8E45-66FAC612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E704-440F-4C20-A3DF-835FE85CC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AE7-3F75-4723-8965-F2841AA4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2D3D-B5F4-4EDC-B975-CB24C16F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D436-A614-403E-9ECD-6877BF28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F91-B7F4-4730-9B94-D886C679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CF6-38A8-4498-9FBB-2E0A5EEFB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8AB6-7D95-46C3-A1FA-90AE31A4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948E-15D1-4F9F-AB82-4EBDA116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9767-08F0-4A97-AC99-00832E1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9D79-838B-4323-B7F6-EDD29CD1368D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۲۸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C74D53-5FEF-454C-BA09-D2EDE2C5F9B5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۹:۳۴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3F3-4A14-4D60-822B-FB7CCC6E4BC6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9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0200" y="27795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928800" y="45086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نویسنده/نویسندگان مقا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در مقالات با بیش از یک نویسنده، نام ارائه کننده مقاله با یک علامت ستاره مشخص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676440" y="115920"/>
            <a:ext cx="8092800" cy="1543320"/>
            <a:chOff x="676440" y="115920"/>
            <a:chExt cx="8092800" cy="1543320"/>
          </a:xfrm>
        </p:grpSpPr>
        <p:sp>
          <p:nvSpPr>
            <p:cNvPr id="52" name="TextBox 27"/>
            <p:cNvSpPr/>
            <p:nvPr/>
          </p:nvSpPr>
          <p:spPr>
            <a:xfrm>
              <a:off x="676440" y="285480"/>
              <a:ext cx="6437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همایش استانی تربیت سیاسی و 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جایگاه و اقتضائات در تربیت معل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350120" y="115920"/>
              <a:ext cx="14191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7"/>
          <p:cNvSpPr/>
          <p:nvPr/>
        </p:nvSpPr>
        <p:spPr>
          <a:xfrm>
            <a:off x="1071720" y="14954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ه صورت افق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محتوای هر اسلاید دارای اطلاعات و داده های زیاد ن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Yekan"/>
              </a:rPr>
              <a:t> </a:t>
            </a:r>
            <a:r>
              <a:rPr b="1" lang="fa-IR" sz="2000" spc="-1" strike="noStrike">
                <a:solidFill>
                  <a:srgbClr val="ff0000"/>
                </a:solidFill>
                <a:latin typeface="Calibri"/>
                <a:cs typeface="B Yekan"/>
              </a:rPr>
              <a:t>نکات اصلی 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در هر اسلاید مشخص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سعی شود بیش از متن، از عکس، شکل و نمودار استفاد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رنگ هایی انتخاب شوند که به خوبی دیده می شو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دون غلط های املایی و نگارش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644364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B Yekan"/>
              </a:rPr>
              <a:t>عنوان مقاله: 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IranNastaliq"/>
                <a:cs typeface="B Lotus"/>
              </a:rPr>
              <a:t>عنوان اسلا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0:13:35Z</dcterms:created>
  <dc:creator>WIN XP</dc:creator>
  <dc:description/>
  <dc:language>en-US</dc:language>
  <cp:lastModifiedBy>heidary</cp:lastModifiedBy>
  <dcterms:modified xsi:type="dcterms:W3CDTF">2015-11-04T05:40:36Z</dcterms:modified>
  <cp:revision>13</cp:revision>
  <dc:subject/>
  <dc:title>Slide 1</dc:title>
</cp:coreProperties>
</file>