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25203150" cy="36002913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1353-B6FC-46AB-89AA-77FFCE82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F4C3-3367-4B9D-A896-B4C05ABA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85FC2-A569-4757-89A1-7CAFE746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FB364-4EE6-4D3A-A79B-20A9A594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1B58D-E273-4510-BA46-D707BBD0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93CDA-AB09-4502-A47A-95009C76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02047-E4D2-40EE-B886-20B38705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4005F-9B52-4AAE-BB42-911B9628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7E6EA-E5BD-46E3-8E2C-0249E608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E9042-4E3E-45EE-8689-76E6A7C7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A82522-937C-4B74-8511-F9901890B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B8AB3E-929A-4200-94A5-A7E315907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398E-75EF-4B4B-8D35-84865FD9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EC58D-30BB-4459-8161-6FE2D908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7829DF-B5F3-4CF9-9B2D-3EB6265C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48B22B-AD1A-49BE-AE9A-92904F02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2D0F6-D944-4350-B40F-E69E9D65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49CFF-92EA-4D16-ACAE-ED4CBEA3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12C54-5A5A-4B04-AABA-E7F90B66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B61764-3D93-453E-86EC-DB18488B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F9094-925C-42DD-A9EA-D2BD0A87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940B3-60D9-49FE-8C13-59EB6F08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7FC52-61DE-4E23-BD8C-7437B11F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8635-7759-47C3-947B-B5DBFAB6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E7945-C843-4B01-9C35-31BFA8930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C28B3-68F7-4104-AA0C-DD2D9BCE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3BBC8-BCCF-4971-A67E-394945CA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B1063-C6F5-4465-AE6A-DA821514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ABE40-527F-47A0-83E8-9FBB6440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13B23F-2FFB-4843-97D1-338089EA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DEC30-E831-49F3-8264-128C6CFE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27BD2-53F8-483F-B278-3B46D90F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3D6E9-F582-4ACF-836B-71240402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C3A4A-D9DE-4577-8B96-68C30EE1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2ED1C-E4E6-46EC-8337-75D1C9F06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B8945-CD85-42E0-B033-AF78868D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0BAE6-89CD-4827-903E-C02F34DC8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9EAB2-4852-4A4F-B066-E7E4549B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B16FE4-188D-4749-A8AB-617FB89B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DA253-1782-4CA5-8A99-55F2AA90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7DCB4-2D33-42A7-A6FE-72D1E0AC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312B4-FC71-48CC-A7F0-EBD77A1F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8795A2-5664-49A5-A6D3-AFA8F7A8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DE323-38AF-4AAB-8B77-D4E3FE3B9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6DD9CB-3645-4967-A18E-BC49F264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5F173-26AD-4B68-BBA4-3043058A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9DA68-14E7-464B-BBCA-7EF1E804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4E117-AA04-410D-AF5E-B8FD618E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1F4650-B9CD-4EB3-85A2-75CD9DE8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E95FF-B9CB-4662-9BCC-13BC94A6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AF55AF-D21E-40DE-BA95-5F25B711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0C5F-AB50-4430-AF46-9BAB9358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65E4-3861-416E-BAA8-20F8E213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EA91-F80D-4C56-8762-837E5736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A89A-9AF1-4CE5-94AA-5DCB0B4B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67069-CA0C-42A5-BAF8-77DD96FF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5DE2-2E2E-4938-B396-1E3E6CE2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40ED-8814-4138-A660-D5EBFD3C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8E7CB-B312-4DD5-8D76-AD237E2C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C02C-C950-44E6-A58B-1247C07A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5D1D-3AD1-4C54-B939-0E4C9B4EB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4747D-ACAF-464C-A7FB-00E3920D2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7CA8A-B90F-44B3-BD5A-AF40FC8A0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14F64-60DB-42CD-AF74-5CD20D53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EEE32-12EA-4671-8495-BC5F9BD0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82C11-2E62-4596-9D2C-90E76400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91CB8-97D6-48EB-9D57-C1670125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AD6-720B-4612-8C79-F5508214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99FCB-EE35-48FE-AE27-7DB16809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2E6AC-F674-4339-BFD0-C98A4E27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3E75C-736A-4258-9EC8-A16EEEF9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814E9F-800A-4F58-BB3D-C7BF0B4A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08A6E-EAE1-4FCE-A817-FACE1C70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8664E-22D4-4C41-A087-89E2FDCB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2CFFF-F2CC-4154-9961-2A8A256B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8F9CB-5883-4BBE-8ACA-66DD595E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73492-D2F0-4110-BB68-DCF71F1F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716FF-0583-42F0-ACF8-E3552299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5F3-46CD-40D3-B197-7AE3334C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B2868-C4E6-4AF9-94D1-6FE9321A0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B5134-836B-44FD-9CFE-9EFD6102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9F375-9A2F-4C15-8D28-9BA44B76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C0FFC-3ADE-4E93-8B5B-60C68B68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D94A8-7C4E-4DEA-9B5D-4F7CEF31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B0D92-8F8A-498A-BFDD-36606F43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8EA58-E1F3-42BE-9B3A-53F8B577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874EB-25F8-46E4-A4CE-068AEF14E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A1EA1-6992-400C-8CB9-B0617A36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2FA44F-A13D-473C-917F-64817CD0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7443-FCF1-46C0-AE5B-2BFE71B87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7648A-DF56-485C-A25B-10A34BE3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00D6E5-5002-416D-A5F0-6563E30C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2144B-62C7-449A-894D-3D0318BF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4B0F8-8288-49C7-B1C9-238A9F74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6DF7D-8F57-4379-8517-87CD1776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AC7D3-5F95-478C-8469-541E0128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345BC-AF94-4067-8E0A-4B83330E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5092B-9176-4FC9-810E-B3489344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99FBA-C9B7-479C-91FB-77A62C16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31D60-3C85-42CB-8E4B-90822B19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32CA-D697-463E-878C-4702C7AE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42679-3685-40F1-A96B-1546F6D2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9673C-E455-4D42-804F-E2EF3A7E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B379E-6611-4D39-AE90-3C54DF73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84548-7B86-4081-B518-F34BB4087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5EC59-9287-4CF5-94B7-FD98F35A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E917C-398E-4A69-A3E4-401A7D04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10CBE-94AD-4FDA-B69D-C1809B74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47E4D-E722-45BB-A9D1-B64243FB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C2DEB-DFD4-456B-A83E-633CE1E4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FE2E06-CD94-48E6-88D4-5A24D9AB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274-630D-421F-86D1-152E2DB2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2DA212-A539-4A2C-87EB-1C950D6C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D0C0A-A910-401C-B020-FD28BA35F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EBE10-15A2-4E80-A939-90354DE14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04B3E-8118-491C-AD17-B6E77B290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E28A7-AB88-4427-9963-38D87E38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C44AC-6985-441D-9EFE-392B2E54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6A667-E8D1-4783-BC5F-D35CCDD3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03356C-2788-4F31-8450-B7B2043DE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8B25A-7E67-4A04-B7A0-47A50577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92DA1-0882-48A7-A0F7-7F5D3DB8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CAC5-9054-4DFF-92AF-1BA8D12C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71120-2287-4456-AAB4-28D8D2CD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1E7F4-9040-45B1-874E-7C287F604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A1677-E51C-40FB-B63F-241B79FA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6EE45-1FA5-45C2-9F46-C8915CFBA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A1394-48C3-441F-89C5-F033F4BE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48F01-1969-49D3-A8EC-BF469EC3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7DD55-7D73-4129-8D27-BD18B0F7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91179-0997-4209-9ADC-716DE456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C4A65-9B4C-41B8-9DA2-484B556C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A0F02-CD7D-4441-A0B2-37272F59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073A-1CB4-4F77-90DE-67A117FD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CFB61-06DF-475E-8438-254C4515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9287B-B5A2-4A29-A1CB-C5618C64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47575-9F31-49F0-8380-6B152097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0F7E8-7DFA-4A7F-90E0-C96DF7FE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4FFD5-0162-498F-A4B2-EBCE4721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C00C9-AEED-4107-9B58-A000CAB2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02026-3C47-4735-8421-131A4A9AD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E0B8B-C0C5-4FDC-996B-656176665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BB560-493E-498A-BD17-F631818B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65292-A824-4473-9F42-8B52C003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B43736B2-EF78-4110-941D-D51797B6C691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D11871DD-E8F8-406F-B645-ED0A9B090C96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77D29AC4-8DDA-42A7-BB62-346102F567F1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734FDA1B-29AE-4B24-9843-218FE1A50C76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6FD47DD3-10EF-4679-9473-5FBA60A4E999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0E24A2B2-FB9D-4D60-916F-65108B285AB7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E275D8C0-7BB7-414D-A01E-920ABB7B9789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6AFDB871-12D0-4BB3-BE1E-E5936CEA3D83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413F6403-FE7B-474E-8DF6-2CEF2CABE9D1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53BA84F6-A1C7-4A28-9FE0-81BDB7E5FE25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C41EF3D7-D790-4236-87B8-98EC2B1CC119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0BBAC340-A699-4062-A29C-83A7053467B4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3"/>
          <p:cNvSpPr/>
          <p:nvPr/>
        </p:nvSpPr>
        <p:spPr>
          <a:xfrm>
            <a:off x="4295880" y="3600360"/>
            <a:ext cx="16535160" cy="24987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1" lang="fa-IR" sz="5000" spc="-1" strike="noStrike">
                <a:solidFill>
                  <a:srgbClr val="000000"/>
                </a:solidFill>
                <a:latin typeface="Calibri"/>
                <a:cs typeface="B Titr"/>
              </a:rPr>
              <a:t>عنوان مقاله : 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  <a:ea typeface="B Titr"/>
              </a:rPr>
              <a:t>B titr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  <a:ea typeface="B Titr"/>
              </a:rPr>
              <a:t>  </a:t>
            </a:r>
            <a:r>
              <a:rPr b="1" lang="fa-IR" sz="5000" spc="-1" strike="noStrike">
                <a:solidFill>
                  <a:srgbClr val="000000"/>
                </a:solidFill>
                <a:latin typeface="Calibri"/>
                <a:ea typeface="B Titr"/>
              </a:rPr>
              <a:t> با سایز</a:t>
            </a:r>
            <a:r>
              <a:rPr b="1" lang="fa-IR" sz="5000" spc="-1" strike="noStrike">
                <a:solidFill>
                  <a:srgbClr val="000000"/>
                </a:solidFill>
                <a:latin typeface="Calibri"/>
                <a:ea typeface="B Titr"/>
              </a:rPr>
              <a:t>48</a:t>
            </a:r>
            <a:r>
              <a:rPr b="1" lang="fa-IR" sz="5000" spc="-1" strike="noStrike">
                <a:solidFill>
                  <a:srgbClr val="000000"/>
                </a:solidFill>
                <a:latin typeface="Calibri"/>
                <a:cs typeface="B Titr"/>
              </a:rPr>
              <a:t>، به صورت تو پ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1" lang="fa-IR" sz="3100" spc="-1" strike="noStrike">
                <a:solidFill>
                  <a:srgbClr val="000000"/>
                </a:solidFill>
                <a:latin typeface="Calibri"/>
                <a:cs typeface="B Traffic"/>
              </a:rPr>
              <a:t>اسامی نویسندگان </a:t>
            </a:r>
            <a:r>
              <a:rPr b="1" lang="fa-IR" sz="3100" spc="-1" strike="noStrike" baseline="30000">
                <a:solidFill>
                  <a:srgbClr val="000000"/>
                </a:solidFill>
                <a:latin typeface="Calibri"/>
                <a:ea typeface="B Traffic"/>
              </a:rPr>
              <a:t>1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: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  <a:ea typeface="B Traffic"/>
              </a:rPr>
              <a:t> 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3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1" lang="fa-IR" sz="3100" spc="-1" strike="noStrike">
                <a:solidFill>
                  <a:srgbClr val="000000"/>
                </a:solidFill>
                <a:latin typeface="Calibri"/>
                <a:cs typeface="B Traffic"/>
              </a:rPr>
              <a:t>اسامی نویسندگان </a:t>
            </a:r>
            <a:r>
              <a:rPr b="1" lang="fa-IR" sz="3100" spc="-1" strike="noStrike" baseline="30000">
                <a:solidFill>
                  <a:srgbClr val="000000"/>
                </a:solidFill>
                <a:latin typeface="Calibri"/>
                <a:ea typeface="B Traffic"/>
              </a:rPr>
              <a:t>2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: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  <a:ea typeface="B Traffic"/>
              </a:rPr>
              <a:t> 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3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3495600"/>
                <a:tab algn="l" pos="6991200"/>
                <a:tab algn="l" pos="10487160"/>
              </a:tabLst>
            </a:pPr>
            <a:r>
              <a:rPr b="1" lang="fa-IR" sz="2300" spc="-1" strike="noStrike">
                <a:solidFill>
                  <a:srgbClr val="000000"/>
                </a:solidFill>
                <a:latin typeface="Calibri"/>
                <a:cs typeface="B Traffic"/>
              </a:rPr>
              <a:t>درجه علمی نویسندگان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1" lang="fa-IR" sz="2300" spc="-1" strike="noStrike">
                <a:solidFill>
                  <a:srgbClr val="000000"/>
                </a:solidFill>
                <a:latin typeface="Calibri"/>
                <a:ea typeface="B Traffic"/>
              </a:rPr>
              <a:t> با سایز </a:t>
            </a:r>
            <a:r>
              <a:rPr b="1" lang="fa-IR" sz="2300" spc="-1" strike="noStrike">
                <a:solidFill>
                  <a:srgbClr val="000000"/>
                </a:solidFill>
                <a:latin typeface="Calibri"/>
                <a:ea typeface="B Traffic"/>
              </a:rPr>
              <a:t>2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3495600"/>
                <a:tab algn="l" pos="6991200"/>
                <a:tab algn="l" pos="10487160"/>
              </a:tabLst>
            </a:pPr>
            <a:r>
              <a:rPr b="1" lang="fa-IR" sz="2300" spc="-1" strike="noStrike">
                <a:solidFill>
                  <a:srgbClr val="000000"/>
                </a:solidFill>
                <a:latin typeface="Calibri"/>
                <a:cs typeface="B Traffic"/>
              </a:rPr>
              <a:t>درجه علمی نویسندگان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1" lang="fa-IR" sz="2300" spc="-1" strike="noStrike">
                <a:solidFill>
                  <a:srgbClr val="000000"/>
                </a:solidFill>
                <a:latin typeface="Calibri"/>
                <a:ea typeface="B Traffic"/>
              </a:rPr>
              <a:t> با سایز </a:t>
            </a:r>
            <a:r>
              <a:rPr b="1" lang="fa-IR" sz="2300" spc="-1" strike="noStrike">
                <a:solidFill>
                  <a:srgbClr val="000000"/>
                </a:solidFill>
                <a:latin typeface="Calibri"/>
                <a:ea typeface="B Traffic"/>
              </a:rPr>
              <a:t>2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4"/>
          <p:cNvSpPr/>
          <p:nvPr/>
        </p:nvSpPr>
        <p:spPr>
          <a:xfrm>
            <a:off x="1400040" y="7334280"/>
            <a:ext cx="22936320" cy="3916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1" lang="fa-IR" sz="3100" spc="-1" strike="noStrike">
                <a:solidFill>
                  <a:srgbClr val="000000"/>
                </a:solidFill>
                <a:latin typeface="Calibri"/>
                <a:cs typeface="B Traffic"/>
              </a:rPr>
              <a:t>متن چکیده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چکیده از قلم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30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 با فونت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 و به صورت تو پر استفاده شود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6"/>
          <p:cNvSpPr/>
          <p:nvPr/>
        </p:nvSpPr>
        <p:spPr>
          <a:xfrm>
            <a:off x="16640280" y="12592080"/>
            <a:ext cx="7924680" cy="10790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این قسمت، اهمیت و ضرورت پژوهش و همچنین پیشینه پژوهش می آی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متن فارسی از قلم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8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انگلیسی از قلم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6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8"/>
          <p:cNvSpPr/>
          <p:nvPr/>
        </p:nvSpPr>
        <p:spPr>
          <a:xfrm>
            <a:off x="13897080" y="28899000"/>
            <a:ext cx="1043928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9"/>
          <p:cNvSpPr/>
          <p:nvPr/>
        </p:nvSpPr>
        <p:spPr>
          <a:xfrm>
            <a:off x="16633800" y="25563600"/>
            <a:ext cx="7924680" cy="83214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وش تحقی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متن فارسی از قلم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8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انگلیسی از قلم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6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21"/>
          <p:cNvSpPr/>
          <p:nvPr/>
        </p:nvSpPr>
        <p:spPr>
          <a:xfrm>
            <a:off x="8258040" y="12592080"/>
            <a:ext cx="7925040" cy="2107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متن فارسی از قلم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8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انگلیسی از قلم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6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23"/>
          <p:cNvSpPr/>
          <p:nvPr/>
        </p:nvSpPr>
        <p:spPr>
          <a:xfrm>
            <a:off x="561960" y="12592080"/>
            <a:ext cx="7315200" cy="1120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نتیجه گیر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متن فارسی از قلم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8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انگلیسی از قلم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6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25"/>
          <p:cNvSpPr/>
          <p:nvPr/>
        </p:nvSpPr>
        <p:spPr>
          <a:xfrm>
            <a:off x="561960" y="25470000"/>
            <a:ext cx="7238880" cy="87328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مراج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متن فارسی از قلم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8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انگلیسی از قلم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6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19"/>
          <p:cNvGrpSpPr/>
          <p:nvPr/>
        </p:nvGrpSpPr>
        <p:grpSpPr>
          <a:xfrm>
            <a:off x="18375480" y="5832360"/>
            <a:ext cx="5924520" cy="1349640"/>
            <a:chOff x="18375480" y="5832360"/>
            <a:chExt cx="5924520" cy="1349640"/>
          </a:xfrm>
        </p:grpSpPr>
        <p:sp>
          <p:nvSpPr>
            <p:cNvPr id="501" name="Trapezoid 16"/>
            <p:cNvSpPr/>
            <p:nvPr/>
          </p:nvSpPr>
          <p:spPr>
            <a:xfrm>
              <a:off x="18375480" y="6391080"/>
              <a:ext cx="5892480" cy="790920"/>
            </a:xfrm>
            <a:prstGeom prst="pie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0" lang="fa-IR" sz="3800" spc="-1" strike="noStrike">
                  <a:solidFill>
                    <a:srgbClr val="000000"/>
                  </a:solidFill>
                  <a:latin typeface="Calibri"/>
                  <a:ea typeface="B Titr"/>
                </a:rPr>
                <a:t>             چکیده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Picture 5" descr="C:\Documents and Settings\WIN XP\Desktop\کلپ آرت\mcol_magnifying_glass.png"/>
            <p:cNvPicPr/>
            <p:nvPr/>
          </p:nvPicPr>
          <p:blipFill>
            <a:blip r:embed="rId1"/>
            <a:stretch/>
          </p:blipFill>
          <p:spPr>
            <a:xfrm>
              <a:off x="22971240" y="5832360"/>
              <a:ext cx="1328760" cy="119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3" name="Group 22"/>
          <p:cNvGrpSpPr/>
          <p:nvPr/>
        </p:nvGrpSpPr>
        <p:grpSpPr>
          <a:xfrm>
            <a:off x="18637200" y="11306160"/>
            <a:ext cx="5558040" cy="1278000"/>
            <a:chOff x="18637200" y="11306160"/>
            <a:chExt cx="5558040" cy="1278000"/>
          </a:xfrm>
        </p:grpSpPr>
        <p:sp>
          <p:nvSpPr>
            <p:cNvPr id="504" name="Trapezoid 19"/>
            <p:cNvSpPr/>
            <p:nvPr/>
          </p:nvSpPr>
          <p:spPr>
            <a:xfrm>
              <a:off x="18637200" y="11775960"/>
              <a:ext cx="5558040" cy="577800"/>
            </a:xfrm>
            <a:prstGeom prst="pie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0" lang="fa-IR" sz="3800" spc="-1" strike="noStrike">
                  <a:solidFill>
                    <a:srgbClr val="000000"/>
                  </a:solidFill>
                  <a:latin typeface="Calibri"/>
                  <a:ea typeface="B Titr"/>
                </a:rPr>
                <a:t>                مقدمه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5" name="Picture 3" descr="C:\Documents and Settings\WIN XP\Desktop\کلپ آرت\introduction-puzzle-pieces-md.png"/>
            <p:cNvPicPr/>
            <p:nvPr/>
          </p:nvPicPr>
          <p:blipFill>
            <a:blip r:embed="rId2"/>
            <a:stretch/>
          </p:blipFill>
          <p:spPr>
            <a:xfrm rot="5400000">
              <a:off x="22815360" y="11327760"/>
              <a:ext cx="1278000" cy="123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6" name="Group 25"/>
          <p:cNvGrpSpPr/>
          <p:nvPr/>
        </p:nvGrpSpPr>
        <p:grpSpPr>
          <a:xfrm>
            <a:off x="18289440" y="24195240"/>
            <a:ext cx="5832720" cy="1218960"/>
            <a:chOff x="18289440" y="24195240"/>
            <a:chExt cx="5832720" cy="1218960"/>
          </a:xfrm>
        </p:grpSpPr>
        <p:sp>
          <p:nvSpPr>
            <p:cNvPr id="507" name="Trapezoid 22"/>
            <p:cNvSpPr/>
            <p:nvPr/>
          </p:nvSpPr>
          <p:spPr>
            <a:xfrm>
              <a:off x="18289440" y="24622200"/>
              <a:ext cx="5591520" cy="609480"/>
            </a:xfrm>
            <a:prstGeom prst="pie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0" lang="fa-IR" sz="3800" spc="-1" strike="noStrike">
                  <a:solidFill>
                    <a:srgbClr val="000000"/>
                  </a:solidFill>
                  <a:latin typeface="Calibri"/>
                  <a:ea typeface="B Titr"/>
                </a:rPr>
                <a:t>           روش تحقیق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Picture 4" descr="C:\Documents and Settings\WIN XP\Desktop\کلپ آرت\edit-paste.png"/>
            <p:cNvPicPr/>
            <p:nvPr/>
          </p:nvPicPr>
          <p:blipFill>
            <a:blip r:embed="rId3">
              <a:grayscl/>
              <a:lum contrast="40000"/>
            </a:blip>
            <a:stretch/>
          </p:blipFill>
          <p:spPr>
            <a:xfrm>
              <a:off x="22741560" y="24195240"/>
              <a:ext cx="138060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9" name="Group 31"/>
          <p:cNvGrpSpPr/>
          <p:nvPr/>
        </p:nvGrpSpPr>
        <p:grpSpPr>
          <a:xfrm>
            <a:off x="2952720" y="11449080"/>
            <a:ext cx="4977000" cy="1143000"/>
            <a:chOff x="2952720" y="11449080"/>
            <a:chExt cx="4977000" cy="1143000"/>
          </a:xfrm>
        </p:grpSpPr>
        <p:sp>
          <p:nvSpPr>
            <p:cNvPr id="510" name="Trapezoid 25"/>
            <p:cNvSpPr/>
            <p:nvPr/>
          </p:nvSpPr>
          <p:spPr>
            <a:xfrm>
              <a:off x="2952720" y="11807640"/>
              <a:ext cx="4977000" cy="603360"/>
            </a:xfrm>
            <a:prstGeom prst="pie">
              <a:avLst/>
            </a:prstGeom>
            <a:solidFill>
              <a:srgbClr val="b90793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0" lang="fa-IR" sz="3800" spc="-1" strike="noStrike">
                  <a:solidFill>
                    <a:srgbClr val="ffffff"/>
                  </a:solidFill>
                  <a:latin typeface="Calibri"/>
                  <a:ea typeface="B Titr"/>
                </a:rPr>
                <a:t>             نتیجه گیری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1" name="Picture 1" descr="C:\Documents and Settings\WIN XP\Desktop\کلپ آرت\Picture1232.jpg"/>
            <p:cNvPicPr/>
            <p:nvPr/>
          </p:nvPicPr>
          <p:blipFill>
            <a:blip r:embed="rId4"/>
            <a:stretch/>
          </p:blipFill>
          <p:spPr>
            <a:xfrm>
              <a:off x="6769440" y="11449080"/>
              <a:ext cx="105408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Trapezoid 28"/>
          <p:cNvSpPr/>
          <p:nvPr/>
        </p:nvSpPr>
        <p:spPr>
          <a:xfrm>
            <a:off x="11229840" y="11748960"/>
            <a:ext cx="4538880" cy="6858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3800" spc="-1" strike="noStrike">
                <a:solidFill>
                  <a:srgbClr val="000000"/>
                </a:solidFill>
                <a:latin typeface="Calibri"/>
                <a:ea typeface="B Titr"/>
              </a:rPr>
              <a:t>               یافته های تحقی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7"/>
          <p:cNvGrpSpPr/>
          <p:nvPr/>
        </p:nvGrpSpPr>
        <p:grpSpPr>
          <a:xfrm>
            <a:off x="2664000" y="24331680"/>
            <a:ext cx="5041800" cy="985680"/>
            <a:chOff x="2664000" y="24331680"/>
            <a:chExt cx="5041800" cy="985680"/>
          </a:xfrm>
        </p:grpSpPr>
        <p:sp>
          <p:nvSpPr>
            <p:cNvPr id="514" name="Trapezoid 31"/>
            <p:cNvSpPr/>
            <p:nvPr/>
          </p:nvSpPr>
          <p:spPr>
            <a:xfrm>
              <a:off x="2664000" y="24687000"/>
              <a:ext cx="4749480" cy="554040"/>
            </a:xfrm>
            <a:prstGeom prst="pi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0" lang="fa-IR" sz="3800" spc="-1" strike="noStrike">
                  <a:solidFill>
                    <a:srgbClr val="000000"/>
                  </a:solidFill>
                  <a:latin typeface="Calibri"/>
                  <a:ea typeface="B Traffic"/>
                </a:rPr>
                <a:t>                </a:t>
              </a:r>
              <a:r>
                <a:rPr b="0" lang="fa-IR" sz="38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منابع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Picture 6" descr="C:\Documents and Settings\WIN XP\Desktop\کلپ آرت\open_book.png"/>
            <p:cNvPicPr/>
            <p:nvPr/>
          </p:nvPicPr>
          <p:blipFill>
            <a:blip r:embed="rId5"/>
            <a:stretch/>
          </p:blipFill>
          <p:spPr>
            <a:xfrm>
              <a:off x="6041160" y="24331680"/>
              <a:ext cx="1664640" cy="98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6" name="Group 1"/>
          <p:cNvGrpSpPr/>
          <p:nvPr/>
        </p:nvGrpSpPr>
        <p:grpSpPr>
          <a:xfrm>
            <a:off x="1138320" y="-986400"/>
            <a:ext cx="21516840" cy="4126320"/>
            <a:chOff x="1138320" y="-986400"/>
            <a:chExt cx="21516840" cy="4126320"/>
          </a:xfrm>
        </p:grpSpPr>
        <p:sp>
          <p:nvSpPr>
            <p:cNvPr id="517" name="TextBox 27"/>
            <p:cNvSpPr/>
            <p:nvPr/>
          </p:nvSpPr>
          <p:spPr>
            <a:xfrm>
              <a:off x="3744000" y="-986400"/>
              <a:ext cx="1891116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1" lang="fa-IR" sz="6600" spc="-1" strike="noStrike">
                  <a:solidFill>
                    <a:srgbClr val="000000"/>
                  </a:solidFill>
                  <a:latin typeface="IranNastaliq"/>
                  <a:ea typeface="B Lotus"/>
                </a:rPr>
                <a:t>             همایش استانی تربیت سیاسی و اجتماعی جایگاه و اقتضائات در تربیت معلم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Picture 9" descr=""/>
            <p:cNvPicPr/>
            <p:nvPr/>
          </p:nvPicPr>
          <p:blipFill>
            <a:blip r:embed="rId6"/>
            <a:stretch/>
          </p:blipFill>
          <p:spPr>
            <a:xfrm>
              <a:off x="1138320" y="504360"/>
              <a:ext cx="2029680" cy="263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9" name="Picture 28" descr=""/>
          <p:cNvPicPr/>
          <p:nvPr/>
        </p:nvPicPr>
        <p:blipFill>
          <a:blip r:embed="rId7"/>
          <a:stretch/>
        </p:blipFill>
        <p:spPr>
          <a:xfrm>
            <a:off x="14762160" y="11221920"/>
            <a:ext cx="102888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15:46Z</dcterms:created>
  <dc:creator>WIN XP</dc:creator>
  <dc:description/>
  <dc:language>en-US</dc:language>
  <cp:lastModifiedBy>ketab</cp:lastModifiedBy>
  <dcterms:modified xsi:type="dcterms:W3CDTF">2015-11-17T04:32:08Z</dcterms:modified>
  <cp:revision>18</cp:revision>
  <dc:subject/>
  <dc:title>Slide 1</dc:title>
</cp:coreProperties>
</file>